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2E3B-B675-4D03-A105-0904FFFC4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ACCD-6EDC-4FDC-BA79-9176DA28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214D-45BF-49F1-9104-801CAB187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E1BD-BD3C-4250-A1CC-F9F80F8A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2138-20E0-4BA7-9B23-64D820F3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F5CE-7E88-4AA1-A735-3F61C0B3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4987-B124-4B40-B8B9-D94C39B3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C1AA-B44F-4846-922F-E78C09A0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CFA4-9841-4AED-BD87-CC0081E0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42C3-2680-4A3E-BACB-7D07B223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6973-8561-452E-82A7-C65C6A07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8609-6923-4E2A-87A7-3ED16DDC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0ED9-2EB4-4875-83C6-DDA6B41D9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468320" y="67320"/>
            <a:ext cx="4390560" cy="4383720"/>
            <a:chOff x="4468320" y="67320"/>
            <a:chExt cx="4390560" cy="4383720"/>
          </a:xfrm>
        </p:grpSpPr>
        <p:grpSp>
          <p:nvGrpSpPr>
            <p:cNvPr id="42" name=""/>
            <p:cNvGrpSpPr/>
            <p:nvPr/>
          </p:nvGrpSpPr>
          <p:grpSpPr>
            <a:xfrm>
              <a:off x="4468320" y="67320"/>
              <a:ext cx="4390560" cy="4383720"/>
              <a:chOff x="4468320" y="67320"/>
              <a:chExt cx="4390560" cy="4383720"/>
            </a:xfrm>
          </p:grpSpPr>
          <p:sp>
            <p:nvSpPr>
              <p:cNvPr id="43" name=""/>
              <p:cNvSpPr/>
              <p:nvPr/>
            </p:nvSpPr>
            <p:spPr>
              <a:xfrm>
                <a:off x="4819680" y="357120"/>
                <a:ext cx="3724200" cy="3495600"/>
              </a:xfrm>
              <a:custGeom>
                <a:avLst/>
                <a:gdLst/>
                <a:ahLst/>
                <a:rect l="l" t="t" r="r" b="b"/>
                <a:pathLst>
                  <a:path w="2346" h="2202">
                    <a:moveTo>
                      <a:pt x="0" y="436"/>
                    </a:moveTo>
                    <a:lnTo>
                      <a:pt x="24" y="1984"/>
                    </a:lnTo>
                    <a:lnTo>
                      <a:pt x="72" y="2105"/>
                    </a:lnTo>
                    <a:lnTo>
                      <a:pt x="145" y="2153"/>
                    </a:lnTo>
                    <a:lnTo>
                      <a:pt x="242" y="2177"/>
                    </a:lnTo>
                    <a:lnTo>
                      <a:pt x="967" y="2202"/>
                    </a:lnTo>
                    <a:lnTo>
                      <a:pt x="1379" y="2202"/>
                    </a:lnTo>
                    <a:lnTo>
                      <a:pt x="2177" y="2105"/>
                    </a:lnTo>
                    <a:lnTo>
                      <a:pt x="2298" y="2032"/>
                    </a:lnTo>
                    <a:lnTo>
                      <a:pt x="2346" y="1887"/>
                    </a:lnTo>
                    <a:lnTo>
                      <a:pt x="2322" y="823"/>
                    </a:lnTo>
                    <a:lnTo>
                      <a:pt x="2322" y="605"/>
                    </a:lnTo>
                    <a:lnTo>
                      <a:pt x="2274" y="532"/>
                    </a:lnTo>
                    <a:lnTo>
                      <a:pt x="1984" y="242"/>
                    </a:lnTo>
                    <a:lnTo>
                      <a:pt x="1790" y="49"/>
                    </a:lnTo>
                    <a:lnTo>
                      <a:pt x="1742" y="0"/>
                    </a:lnTo>
                    <a:lnTo>
                      <a:pt x="701" y="24"/>
                    </a:lnTo>
                    <a:lnTo>
                      <a:pt x="629" y="49"/>
                    </a:lnTo>
                    <a:lnTo>
                      <a:pt x="629" y="121"/>
                    </a:lnTo>
                    <a:lnTo>
                      <a:pt x="266" y="145"/>
                    </a:lnTo>
                    <a:lnTo>
                      <a:pt x="169" y="169"/>
                    </a:lnTo>
                    <a:lnTo>
                      <a:pt x="97" y="218"/>
                    </a:lnTo>
                    <a:lnTo>
                      <a:pt x="48" y="266"/>
                    </a:lnTo>
                    <a:lnTo>
                      <a:pt x="0" y="363"/>
                    </a:lnTo>
                    <a:lnTo>
                      <a:pt x="0" y="436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237520" y="3390840"/>
                <a:ext cx="154080" cy="154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507440" y="473040"/>
                <a:ext cx="153720" cy="154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126040" y="741240"/>
                <a:ext cx="154080" cy="154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049720" y="3506760"/>
                <a:ext cx="154080" cy="154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432480" y="2048040"/>
                <a:ext cx="460440" cy="46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048360" y="2239920"/>
                <a:ext cx="114480" cy="114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123320" y="2200320"/>
                <a:ext cx="114120" cy="114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4468320" y="67320"/>
                <a:ext cx="4390560" cy="4383720"/>
                <a:chOff x="4468320" y="67320"/>
                <a:chExt cx="4390560" cy="4383720"/>
              </a:xfrm>
            </p:grpSpPr>
            <p:sp>
              <p:nvSpPr>
                <p:cNvPr id="52" name=""/>
                <p:cNvSpPr/>
                <p:nvPr/>
              </p:nvSpPr>
              <p:spPr>
                <a:xfrm flipV="1" rot="9033000">
                  <a:off x="5049000" y="653040"/>
                  <a:ext cx="3228840" cy="3211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70" y="13602"/>
                      </a:moveTo>
                      <a:arcTo wR="10800" hR="10800" stAng="9897842" swAng="1135248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70" y="13602"/>
                      </a:moveTo>
                      <a:arcTo wR="10800" hR="10800" stAng="9897842" swAng="11352487"/>
                    </a:path>
                  </a:pathLst>
                </a:custGeom>
                <a:noFill/>
                <a:ln w="7632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rot="4740600">
                  <a:off x="5900760" y="1089720"/>
                  <a:ext cx="2667240" cy="2072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71" y="1"/>
                      </a:moveTo>
                      <a:arcTo wR="10800" hR="10800" stAng="-5441171" swAng="34323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71" y="1"/>
                      </a:moveTo>
                      <a:arcTo wR="10800" hR="10800" stAng="-5441171" swAng="3432390"/>
                    </a:path>
                  </a:pathLst>
                </a:custGeom>
                <a:noFill/>
                <a:ln w="76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 rot="985200">
                  <a:off x="4944600" y="1925640"/>
                  <a:ext cx="268560" cy="3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 rot="20170800">
                  <a:off x="5027400" y="2771640"/>
                  <a:ext cx="268200" cy="3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rot="2377200">
                  <a:off x="5333760" y="1158840"/>
                  <a:ext cx="268200" cy="3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rot="4054800">
                  <a:off x="6064920" y="697680"/>
                  <a:ext cx="268560" cy="3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rot="6338400">
                  <a:off x="6909480" y="697320"/>
                  <a:ext cx="268560" cy="3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19419000">
                  <a:off x="7677000" y="1120320"/>
                  <a:ext cx="268200" cy="3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20551200">
                  <a:off x="8061480" y="1888920"/>
                  <a:ext cx="268200" cy="37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985200">
                  <a:off x="8061120" y="2733840"/>
                  <a:ext cx="268200" cy="37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21445800">
                  <a:off x="4911840" y="2349360"/>
                  <a:ext cx="268200" cy="76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894800">
                  <a:off x="5065920" y="1504800"/>
                  <a:ext cx="268200" cy="76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3505200">
                  <a:off x="5680800" y="870480"/>
                  <a:ext cx="268200" cy="76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5400000">
                  <a:off x="6506280" y="640440"/>
                  <a:ext cx="268200" cy="76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rot="10800000">
                  <a:off x="8138880" y="2273040"/>
                  <a:ext cx="268200" cy="75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rot="9242400">
                  <a:off x="7925760" y="1447560"/>
                  <a:ext cx="268200" cy="75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rot="6741600">
                  <a:off x="7312680" y="832320"/>
                  <a:ext cx="268200" cy="76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" name=""/>
              <p:cNvSpPr/>
              <p:nvPr/>
            </p:nvSpPr>
            <p:spPr>
              <a:xfrm>
                <a:off x="5295960" y="2771640"/>
                <a:ext cx="422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027760" y="2100240"/>
                <a:ext cx="422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219640" y="1407960"/>
                <a:ext cx="422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18240" y="852480"/>
                <a:ext cx="422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410520" y="620640"/>
                <a:ext cx="422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178760" y="812880"/>
                <a:ext cx="422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77360" y="2714760"/>
                <a:ext cx="422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16960" y="1351080"/>
                <a:ext cx="422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907400" y="2022480"/>
                <a:ext cx="422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5878440" y="300672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X 1000 RP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1308240" y="4503600"/>
            <a:ext cx="1574640" cy="1574640"/>
            <a:chOff x="1308240" y="4503600"/>
            <a:chExt cx="1574640" cy="1574640"/>
          </a:xfrm>
        </p:grpSpPr>
        <p:sp>
          <p:nvSpPr>
            <p:cNvPr id="80" name=""/>
            <p:cNvSpPr/>
            <p:nvPr/>
          </p:nvSpPr>
          <p:spPr>
            <a:xfrm>
              <a:off x="1308240" y="4503600"/>
              <a:ext cx="1574640" cy="1574640"/>
            </a:xfrm>
            <a:custGeom>
              <a:avLst/>
              <a:gdLst/>
              <a:ahLst/>
              <a:rect l="l" t="t" r="r" b="b"/>
              <a:pathLst>
                <a:path w="992" h="992">
                  <a:moveTo>
                    <a:pt x="0" y="291"/>
                  </a:moveTo>
                  <a:lnTo>
                    <a:pt x="0" y="992"/>
                  </a:lnTo>
                  <a:lnTo>
                    <a:pt x="968" y="992"/>
                  </a:lnTo>
                  <a:lnTo>
                    <a:pt x="992" y="895"/>
                  </a:lnTo>
                  <a:lnTo>
                    <a:pt x="968" y="605"/>
                  </a:lnTo>
                  <a:lnTo>
                    <a:pt x="871" y="605"/>
                  </a:lnTo>
                  <a:cubicBezTo>
                    <a:pt x="847" y="597"/>
                    <a:pt x="821" y="594"/>
                    <a:pt x="799" y="581"/>
                  </a:cubicBezTo>
                  <a:cubicBezTo>
                    <a:pt x="793" y="578"/>
                    <a:pt x="796" y="562"/>
                    <a:pt x="796" y="562"/>
                  </a:cubicBezTo>
                  <a:lnTo>
                    <a:pt x="750" y="484"/>
                  </a:lnTo>
                  <a:lnTo>
                    <a:pt x="799" y="363"/>
                  </a:lnTo>
                  <a:lnTo>
                    <a:pt x="871" y="315"/>
                  </a:lnTo>
                  <a:lnTo>
                    <a:pt x="968" y="315"/>
                  </a:lnTo>
                  <a:lnTo>
                    <a:pt x="968" y="0"/>
                  </a:lnTo>
                  <a:lnTo>
                    <a:pt x="169" y="0"/>
                  </a:lnTo>
                  <a:lnTo>
                    <a:pt x="73" y="49"/>
                  </a:lnTo>
                  <a:lnTo>
                    <a:pt x="49" y="97"/>
                  </a:lnTo>
                  <a:lnTo>
                    <a:pt x="49" y="291"/>
                  </a:lnTo>
                  <a:cubicBezTo>
                    <a:pt x="33" y="291"/>
                    <a:pt x="16" y="291"/>
                    <a:pt x="0" y="291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1" name=""/>
            <p:cNvGraphicFramePr/>
            <p:nvPr/>
          </p:nvGraphicFramePr>
          <p:xfrm>
            <a:off x="1960560" y="5041440"/>
            <a:ext cx="480960" cy="430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60560" y="5041440"/>
                      <a:ext cx="480960" cy="43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" name=""/>
            <p:cNvSpPr/>
            <p:nvPr/>
          </p:nvSpPr>
          <p:spPr>
            <a:xfrm>
              <a:off x="2652840" y="4543200"/>
              <a:ext cx="1537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652840" y="5886000"/>
              <a:ext cx="15372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500120" y="4628880"/>
              <a:ext cx="34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 Black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00120" y="5617800"/>
              <a:ext cx="34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 Black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307880" y="5233680"/>
              <a:ext cx="1114560" cy="114120"/>
            </a:xfrm>
            <a:custGeom>
              <a:avLst/>
              <a:gdLst>
                <a:gd name="textAreaLeft" fmla="*/ 133200 w 1114560"/>
                <a:gd name="textAreaRight" fmla="*/ 981360 w 1114560"/>
                <a:gd name="textAreaTop" fmla="*/ 13320 h 114120"/>
                <a:gd name="textAreaBottom" fmla="*/ 1008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04" y="21600"/>
                  </a:lnTo>
                  <a:lnTo>
                    <a:pt x="1496" y="2160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195800">
              <a:off x="1730160" y="4925520"/>
              <a:ext cx="230040" cy="3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20953200">
              <a:off x="1730520" y="5387760"/>
              <a:ext cx="230040" cy="3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20382000">
              <a:off x="1768320" y="5655600"/>
              <a:ext cx="230040" cy="3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4341960" y="4503600"/>
            <a:ext cx="1574640" cy="1766880"/>
            <a:chOff x="4341960" y="4503600"/>
            <a:chExt cx="1574640" cy="1766880"/>
          </a:xfrm>
        </p:grpSpPr>
        <p:sp>
          <p:nvSpPr>
            <p:cNvPr id="92" name=""/>
            <p:cNvSpPr/>
            <p:nvPr/>
          </p:nvSpPr>
          <p:spPr>
            <a:xfrm>
              <a:off x="4341960" y="4503600"/>
              <a:ext cx="1574640" cy="1766880"/>
            </a:xfrm>
            <a:custGeom>
              <a:avLst/>
              <a:gdLst/>
              <a:ahLst/>
              <a:rect l="l" t="t" r="r" b="b"/>
              <a:pathLst>
                <a:path w="1016" h="1137">
                  <a:moveTo>
                    <a:pt x="0" y="48"/>
                  </a:moveTo>
                  <a:lnTo>
                    <a:pt x="0" y="798"/>
                  </a:lnTo>
                  <a:lnTo>
                    <a:pt x="48" y="822"/>
                  </a:lnTo>
                  <a:lnTo>
                    <a:pt x="72" y="895"/>
                  </a:lnTo>
                  <a:lnTo>
                    <a:pt x="72" y="1064"/>
                  </a:lnTo>
                  <a:lnTo>
                    <a:pt x="169" y="1137"/>
                  </a:lnTo>
                  <a:lnTo>
                    <a:pt x="968" y="1137"/>
                  </a:lnTo>
                  <a:lnTo>
                    <a:pt x="1016" y="1040"/>
                  </a:lnTo>
                  <a:lnTo>
                    <a:pt x="1016" y="677"/>
                  </a:lnTo>
                  <a:lnTo>
                    <a:pt x="871" y="677"/>
                  </a:lnTo>
                  <a:lnTo>
                    <a:pt x="798" y="605"/>
                  </a:lnTo>
                  <a:lnTo>
                    <a:pt x="798" y="508"/>
                  </a:lnTo>
                  <a:lnTo>
                    <a:pt x="822" y="435"/>
                  </a:lnTo>
                  <a:lnTo>
                    <a:pt x="943" y="411"/>
                  </a:lnTo>
                  <a:lnTo>
                    <a:pt x="1016" y="387"/>
                  </a:lnTo>
                  <a:lnTo>
                    <a:pt x="992" y="0"/>
                  </a:lnTo>
                  <a:lnTo>
                    <a:pt x="72" y="0"/>
                  </a:lnTo>
                  <a:lnTo>
                    <a:pt x="0" y="48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6200000">
              <a:off x="4359960" y="5252040"/>
              <a:ext cx="1114200" cy="153720"/>
            </a:xfrm>
            <a:custGeom>
              <a:avLst/>
              <a:gdLst>
                <a:gd name="textAreaLeft" fmla="*/ 132840 w 1114200"/>
                <a:gd name="textAreaRight" fmla="*/ 981360 w 1114200"/>
                <a:gd name="textAreaTop" fmla="*/ 18360 h 153720"/>
                <a:gd name="textAreaBottom" fmla="*/ 135360 h 15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04" y="21600"/>
                  </a:lnTo>
                  <a:lnTo>
                    <a:pt x="1496" y="2160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33840" y="4657680"/>
              <a:ext cx="46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 Black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95680" y="5656320"/>
              <a:ext cx="46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 Black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25720" y="5310360"/>
              <a:ext cx="345960" cy="3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3"/>
            <a:stretch/>
          </p:blipFill>
          <p:spPr>
            <a:xfrm>
              <a:off x="5072040" y="5118120"/>
              <a:ext cx="34704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686200" y="4579920"/>
              <a:ext cx="152280" cy="15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686200" y="6040440"/>
              <a:ext cx="152280" cy="15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01480" y="395280"/>
            <a:ext cx="3726000" cy="3417840"/>
            <a:chOff x="501480" y="395280"/>
            <a:chExt cx="3726000" cy="3417840"/>
          </a:xfrm>
        </p:grpSpPr>
        <p:sp>
          <p:nvSpPr>
            <p:cNvPr id="101" name=""/>
            <p:cNvSpPr/>
            <p:nvPr/>
          </p:nvSpPr>
          <p:spPr>
            <a:xfrm>
              <a:off x="501480" y="395280"/>
              <a:ext cx="3726000" cy="3417840"/>
            </a:xfrm>
            <a:custGeom>
              <a:avLst/>
              <a:gdLst/>
              <a:ahLst/>
              <a:rect l="l" t="t" r="r" b="b"/>
              <a:pathLst>
                <a:path w="2661" h="2444">
                  <a:moveTo>
                    <a:pt x="24" y="653"/>
                  </a:moveTo>
                  <a:lnTo>
                    <a:pt x="0" y="726"/>
                  </a:lnTo>
                  <a:lnTo>
                    <a:pt x="24" y="2202"/>
                  </a:lnTo>
                  <a:lnTo>
                    <a:pt x="97" y="2347"/>
                  </a:lnTo>
                  <a:lnTo>
                    <a:pt x="218" y="2395"/>
                  </a:lnTo>
                  <a:lnTo>
                    <a:pt x="532" y="2444"/>
                  </a:lnTo>
                  <a:lnTo>
                    <a:pt x="2347" y="2444"/>
                  </a:lnTo>
                  <a:lnTo>
                    <a:pt x="2419" y="2419"/>
                  </a:lnTo>
                  <a:lnTo>
                    <a:pt x="2468" y="2323"/>
                  </a:lnTo>
                  <a:lnTo>
                    <a:pt x="2468" y="2105"/>
                  </a:lnTo>
                  <a:lnTo>
                    <a:pt x="2516" y="2081"/>
                  </a:lnTo>
                  <a:lnTo>
                    <a:pt x="2637" y="2057"/>
                  </a:lnTo>
                  <a:lnTo>
                    <a:pt x="2661" y="1984"/>
                  </a:lnTo>
                  <a:lnTo>
                    <a:pt x="2637" y="581"/>
                  </a:lnTo>
                  <a:lnTo>
                    <a:pt x="2589" y="508"/>
                  </a:lnTo>
                  <a:lnTo>
                    <a:pt x="2202" y="97"/>
                  </a:lnTo>
                  <a:lnTo>
                    <a:pt x="2129" y="49"/>
                  </a:lnTo>
                  <a:lnTo>
                    <a:pt x="2081" y="49"/>
                  </a:lnTo>
                  <a:lnTo>
                    <a:pt x="1621" y="49"/>
                  </a:lnTo>
                  <a:lnTo>
                    <a:pt x="1621" y="0"/>
                  </a:lnTo>
                  <a:lnTo>
                    <a:pt x="1065" y="0"/>
                  </a:lnTo>
                  <a:lnTo>
                    <a:pt x="677" y="0"/>
                  </a:lnTo>
                  <a:lnTo>
                    <a:pt x="557" y="73"/>
                  </a:lnTo>
                  <a:lnTo>
                    <a:pt x="48" y="605"/>
                  </a:lnTo>
                  <a:lnTo>
                    <a:pt x="0" y="702"/>
                  </a:lnTo>
                  <a:lnTo>
                    <a:pt x="0" y="750"/>
                  </a:lnTo>
                  <a:lnTo>
                    <a:pt x="0" y="871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1084320" y="900000"/>
              <a:ext cx="2561400" cy="2585880"/>
              <a:chOff x="1084320" y="900000"/>
              <a:chExt cx="2561400" cy="2585880"/>
            </a:xfrm>
          </p:grpSpPr>
          <p:sp>
            <p:nvSpPr>
              <p:cNvPr id="103" name=""/>
              <p:cNvSpPr/>
              <p:nvPr/>
            </p:nvSpPr>
            <p:spPr>
              <a:xfrm>
                <a:off x="1114560" y="930240"/>
                <a:ext cx="2502720" cy="25538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419480" y="3023640"/>
                <a:ext cx="1917360" cy="462240"/>
              </a:xfrm>
              <a:custGeom>
                <a:avLst/>
                <a:gdLst/>
                <a:ahLst/>
                <a:rect l="l" t="t" r="r" b="b"/>
                <a:pathLst>
                  <a:path w="1196" h="288">
                    <a:moveTo>
                      <a:pt x="0" y="4"/>
                    </a:moveTo>
                    <a:lnTo>
                      <a:pt x="136" y="136"/>
                    </a:lnTo>
                    <a:lnTo>
                      <a:pt x="288" y="228"/>
                    </a:lnTo>
                    <a:lnTo>
                      <a:pt x="456" y="276"/>
                    </a:lnTo>
                    <a:lnTo>
                      <a:pt x="596" y="288"/>
                    </a:lnTo>
                    <a:lnTo>
                      <a:pt x="736" y="276"/>
                    </a:lnTo>
                    <a:lnTo>
                      <a:pt x="816" y="252"/>
                    </a:lnTo>
                    <a:lnTo>
                      <a:pt x="984" y="192"/>
                    </a:lnTo>
                    <a:lnTo>
                      <a:pt x="1100" y="100"/>
                    </a:lnTo>
                    <a:lnTo>
                      <a:pt x="1196" y="0"/>
                    </a:lnTo>
                  </a:path>
                </a:pathLst>
              </a:custGeom>
              <a:solidFill>
                <a:srgbClr val="ffffff">
                  <a:alpha val="49000"/>
                </a:srgbClr>
              </a:solidFill>
              <a:ln w="9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650680" y="960840"/>
                <a:ext cx="753120" cy="529560"/>
              </a:xfrm>
              <a:custGeom>
                <a:avLst/>
                <a:gdLst/>
                <a:ahLst/>
                <a:rect l="l" t="t" r="r" b="b"/>
                <a:pathLst>
                  <a:path w="470" h="330">
                    <a:moveTo>
                      <a:pt x="0" y="0"/>
                    </a:moveTo>
                    <a:lnTo>
                      <a:pt x="70" y="21"/>
                    </a:lnTo>
                    <a:lnTo>
                      <a:pt x="115" y="39"/>
                    </a:lnTo>
                    <a:lnTo>
                      <a:pt x="184" y="71"/>
                    </a:lnTo>
                    <a:lnTo>
                      <a:pt x="266" y="120"/>
                    </a:lnTo>
                    <a:cubicBezTo>
                      <a:pt x="295" y="141"/>
                      <a:pt x="333" y="174"/>
                      <a:pt x="358" y="198"/>
                    </a:cubicBezTo>
                    <a:cubicBezTo>
                      <a:pt x="383" y="222"/>
                      <a:pt x="399" y="239"/>
                      <a:pt x="418" y="261"/>
                    </a:cubicBezTo>
                    <a:cubicBezTo>
                      <a:pt x="437" y="283"/>
                      <a:pt x="459" y="316"/>
                      <a:pt x="470" y="330"/>
                    </a:cubicBezTo>
                  </a:path>
                </a:pathLst>
              </a:custGeom>
              <a:noFill/>
              <a:ln w="540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336840" y="1509840"/>
                <a:ext cx="280440" cy="1512000"/>
              </a:xfrm>
              <a:custGeom>
                <a:avLst/>
                <a:gdLst/>
                <a:ahLst/>
                <a:rect l="l" t="t" r="r" b="b"/>
                <a:pathLst>
                  <a:path w="175" h="942">
                    <a:moveTo>
                      <a:pt x="50" y="0"/>
                    </a:moveTo>
                    <a:cubicBezTo>
                      <a:pt x="64" y="28"/>
                      <a:pt x="114" y="122"/>
                      <a:pt x="132" y="170"/>
                    </a:cubicBezTo>
                    <a:cubicBezTo>
                      <a:pt x="150" y="218"/>
                      <a:pt x="153" y="249"/>
                      <a:pt x="160" y="290"/>
                    </a:cubicBezTo>
                    <a:cubicBezTo>
                      <a:pt x="167" y="331"/>
                      <a:pt x="173" y="373"/>
                      <a:pt x="174" y="418"/>
                    </a:cubicBezTo>
                    <a:cubicBezTo>
                      <a:pt x="175" y="463"/>
                      <a:pt x="170" y="519"/>
                      <a:pt x="164" y="562"/>
                    </a:cubicBezTo>
                    <a:cubicBezTo>
                      <a:pt x="158" y="605"/>
                      <a:pt x="154" y="633"/>
                      <a:pt x="140" y="674"/>
                    </a:cubicBezTo>
                    <a:cubicBezTo>
                      <a:pt x="126" y="715"/>
                      <a:pt x="105" y="765"/>
                      <a:pt x="82" y="810"/>
                    </a:cubicBezTo>
                    <a:cubicBezTo>
                      <a:pt x="59" y="855"/>
                      <a:pt x="17" y="915"/>
                      <a:pt x="0" y="942"/>
                    </a:cubicBezTo>
                  </a:path>
                </a:pathLst>
              </a:custGeom>
              <a:noFill/>
              <a:ln w="540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1084320" y="900000"/>
                <a:ext cx="2561400" cy="1893960"/>
                <a:chOff x="1084320" y="900000"/>
                <a:chExt cx="2561400" cy="18939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1084320" y="2133000"/>
                  <a:ext cx="92880" cy="27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rot="20161800">
                  <a:off x="1199880" y="2748960"/>
                  <a:ext cx="92520" cy="27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rot="1818000">
                  <a:off x="1252080" y="1531800"/>
                  <a:ext cx="92880" cy="27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rot="3267600">
                  <a:off x="1698480" y="1095120"/>
                  <a:ext cx="92880" cy="27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rot="7157400">
                  <a:off x="2890800" y="1078560"/>
                  <a:ext cx="92880" cy="27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rot="5400000">
                  <a:off x="2291400" y="932760"/>
                  <a:ext cx="92880" cy="27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rot="8549400">
                  <a:off x="3350520" y="1496520"/>
                  <a:ext cx="92880" cy="27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rot="10800000">
                  <a:off x="3552840" y="2087280"/>
                  <a:ext cx="92880" cy="27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rot="12584400">
                  <a:off x="3448440" y="2693880"/>
                  <a:ext cx="92880" cy="27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H="1">
                  <a:off x="2638800" y="928440"/>
                  <a:ext cx="22320" cy="96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H="1">
                  <a:off x="3168000" y="1232280"/>
                  <a:ext cx="62280" cy="76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551400" y="2408760"/>
                  <a:ext cx="76680" cy="12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>
                  <a:off x="3521880" y="1784520"/>
                  <a:ext cx="54360" cy="158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>
                  <a:off x="1106640" y="2460240"/>
                  <a:ext cx="68400" cy="9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flipH="1" flipV="1">
                  <a:off x="1114560" y="1819440"/>
                  <a:ext cx="87840" cy="21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H="1" flipV="1">
                  <a:off x="1454400" y="1262520"/>
                  <a:ext cx="78480" cy="67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 flipV="1">
                  <a:off x="2014200" y="936360"/>
                  <a:ext cx="25200" cy="80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695160" y="473040"/>
              <a:ext cx="3139920" cy="3222360"/>
              <a:chOff x="695160" y="473040"/>
              <a:chExt cx="3139920" cy="3222360"/>
            </a:xfrm>
          </p:grpSpPr>
          <p:sp>
            <p:nvSpPr>
              <p:cNvPr id="126" name=""/>
              <p:cNvSpPr/>
              <p:nvPr/>
            </p:nvSpPr>
            <p:spPr>
              <a:xfrm>
                <a:off x="1315800" y="473040"/>
                <a:ext cx="153720" cy="155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411720" y="511560"/>
                <a:ext cx="153720" cy="155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681360" y="3539880"/>
                <a:ext cx="153720" cy="155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95160" y="3462480"/>
                <a:ext cx="153720" cy="155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245680" y="3345480"/>
                <a:ext cx="234000" cy="23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130480" y="1987920"/>
                <a:ext cx="465120" cy="42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780560" y="2142000"/>
                <a:ext cx="115560" cy="115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866680" y="2142000"/>
                <a:ext cx="115200" cy="115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819080" y="2647440"/>
                <a:ext cx="194040" cy="19404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130480" y="2647440"/>
                <a:ext cx="193680" cy="194040"/>
              </a:xfrm>
              <a:custGeom>
                <a:avLst/>
                <a:gdLst>
                  <a:gd name="textAreaLeft" fmla="*/ 9360 w 193680"/>
                  <a:gd name="textAreaRight" fmla="*/ 184320 w 193680"/>
                  <a:gd name="textAreaTop" fmla="*/ 9360 h 194040"/>
                  <a:gd name="textAreaBottom" fmla="*/ 184680 h 194040"/>
                </a:gdLst>
                <a:ahLst/>
                <a:rect l="textAreaLeft" t="textAreaTop" r="textAreaRight" b="textAreaBottom"/>
                <a:pathLst>
                  <a:path w="21600" h="21640">
                    <a:moveTo>
                      <a:pt x="3600" y="0"/>
                    </a:moveTo>
                    <a:arcTo wR="3600" hR="3600" stAng="16200000" swAng="-5400000"/>
                    <a:lnTo>
                      <a:pt x="0" y="18040"/>
                    </a:lnTo>
                    <a:arcTo wR="3600" hR="3600" stAng="10800000" swAng="-5400000"/>
                    <a:lnTo>
                      <a:pt x="18000" y="2164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401560" y="2647440"/>
                <a:ext cx="194040" cy="19404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712600" y="2647440"/>
                <a:ext cx="194040" cy="19404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819080" y="1560960"/>
                <a:ext cx="1047240" cy="19368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2712960" y="3036960"/>
              <a:ext cx="85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MP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55600" y="2933640"/>
              <a:ext cx="5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70040" y="258444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54120" y="193032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8200" y="124308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08240" y="74124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75040" y="51444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05120" y="66348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59240" y="258768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75160" y="181944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381480" y="116352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5867280" y="1523880"/>
          <a:ext cx="1704960" cy="15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523880"/>
                    <a:ext cx="170496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4819680" y="357120"/>
            <a:ext cx="3724200" cy="3495600"/>
          </a:xfrm>
          <a:custGeom>
            <a:avLst/>
            <a:gdLst/>
            <a:ahLst/>
            <a:rect l="l" t="t" r="r" b="b"/>
            <a:pathLst>
              <a:path w="2346" h="2202">
                <a:moveTo>
                  <a:pt x="0" y="436"/>
                </a:moveTo>
                <a:lnTo>
                  <a:pt x="24" y="1984"/>
                </a:lnTo>
                <a:lnTo>
                  <a:pt x="72" y="2105"/>
                </a:lnTo>
                <a:lnTo>
                  <a:pt x="145" y="2153"/>
                </a:lnTo>
                <a:lnTo>
                  <a:pt x="242" y="2177"/>
                </a:lnTo>
                <a:lnTo>
                  <a:pt x="967" y="2202"/>
                </a:lnTo>
                <a:lnTo>
                  <a:pt x="1379" y="2202"/>
                </a:lnTo>
                <a:lnTo>
                  <a:pt x="2177" y="2105"/>
                </a:lnTo>
                <a:lnTo>
                  <a:pt x="2298" y="2032"/>
                </a:lnTo>
                <a:lnTo>
                  <a:pt x="2346" y="1887"/>
                </a:lnTo>
                <a:lnTo>
                  <a:pt x="2322" y="823"/>
                </a:lnTo>
                <a:lnTo>
                  <a:pt x="2322" y="605"/>
                </a:lnTo>
                <a:lnTo>
                  <a:pt x="2274" y="532"/>
                </a:lnTo>
                <a:lnTo>
                  <a:pt x="1984" y="242"/>
                </a:lnTo>
                <a:lnTo>
                  <a:pt x="1790" y="49"/>
                </a:lnTo>
                <a:lnTo>
                  <a:pt x="1742" y="0"/>
                </a:lnTo>
                <a:lnTo>
                  <a:pt x="701" y="24"/>
                </a:lnTo>
                <a:lnTo>
                  <a:pt x="629" y="49"/>
                </a:lnTo>
                <a:lnTo>
                  <a:pt x="629" y="121"/>
                </a:lnTo>
                <a:lnTo>
                  <a:pt x="266" y="145"/>
                </a:lnTo>
                <a:lnTo>
                  <a:pt x="169" y="169"/>
                </a:lnTo>
                <a:lnTo>
                  <a:pt x="97" y="218"/>
                </a:lnTo>
                <a:lnTo>
                  <a:pt x="48" y="266"/>
                </a:lnTo>
                <a:lnTo>
                  <a:pt x="0" y="363"/>
                </a:lnTo>
                <a:lnTo>
                  <a:pt x="0" y="43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37520" y="3390840"/>
            <a:ext cx="154080" cy="154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07440" y="473040"/>
            <a:ext cx="153720" cy="154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26040" y="741240"/>
            <a:ext cx="154080" cy="154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49720" y="3506760"/>
            <a:ext cx="154080" cy="154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181480" y="858960"/>
            <a:ext cx="2976120" cy="2798640"/>
            <a:chOff x="5181480" y="858960"/>
            <a:chExt cx="2976120" cy="2798640"/>
          </a:xfrm>
        </p:grpSpPr>
        <p:sp>
          <p:nvSpPr>
            <p:cNvPr id="158" name=""/>
            <p:cNvSpPr/>
            <p:nvPr/>
          </p:nvSpPr>
          <p:spPr>
            <a:xfrm>
              <a:off x="5181480" y="1265400"/>
              <a:ext cx="907920" cy="1974600"/>
            </a:xfrm>
            <a:custGeom>
              <a:avLst/>
              <a:gdLst/>
              <a:ahLst/>
              <a:rect l="l" t="t" r="r" b="b"/>
              <a:pathLst>
                <a:path w="572" h="1244">
                  <a:moveTo>
                    <a:pt x="244" y="12"/>
                  </a:moveTo>
                  <a:cubicBezTo>
                    <a:pt x="224" y="31"/>
                    <a:pt x="184" y="69"/>
                    <a:pt x="156" y="112"/>
                  </a:cubicBezTo>
                  <a:cubicBezTo>
                    <a:pt x="128" y="155"/>
                    <a:pt x="99" y="206"/>
                    <a:pt x="76" y="268"/>
                  </a:cubicBezTo>
                  <a:cubicBezTo>
                    <a:pt x="53" y="330"/>
                    <a:pt x="28" y="409"/>
                    <a:pt x="16" y="481"/>
                  </a:cubicBezTo>
                  <a:cubicBezTo>
                    <a:pt x="4" y="553"/>
                    <a:pt x="0" y="635"/>
                    <a:pt x="4" y="703"/>
                  </a:cubicBezTo>
                  <a:cubicBezTo>
                    <a:pt x="8" y="771"/>
                    <a:pt x="25" y="834"/>
                    <a:pt x="41" y="891"/>
                  </a:cubicBezTo>
                  <a:cubicBezTo>
                    <a:pt x="57" y="948"/>
                    <a:pt x="69" y="989"/>
                    <a:pt x="101" y="1047"/>
                  </a:cubicBezTo>
                  <a:cubicBezTo>
                    <a:pt x="133" y="1105"/>
                    <a:pt x="202" y="1209"/>
                    <a:pt x="234" y="1242"/>
                  </a:cubicBezTo>
                  <a:lnTo>
                    <a:pt x="292" y="1244"/>
                  </a:lnTo>
                  <a:lnTo>
                    <a:pt x="324" y="1237"/>
                  </a:lnTo>
                  <a:lnTo>
                    <a:pt x="567" y="994"/>
                  </a:lnTo>
                  <a:lnTo>
                    <a:pt x="572" y="936"/>
                  </a:lnTo>
                  <a:lnTo>
                    <a:pt x="497" y="816"/>
                  </a:lnTo>
                  <a:lnTo>
                    <a:pt x="462" y="666"/>
                  </a:lnTo>
                  <a:lnTo>
                    <a:pt x="464" y="563"/>
                  </a:lnTo>
                  <a:lnTo>
                    <a:pt x="507" y="421"/>
                  </a:lnTo>
                  <a:lnTo>
                    <a:pt x="570" y="315"/>
                  </a:lnTo>
                  <a:lnTo>
                    <a:pt x="570" y="268"/>
                  </a:lnTo>
                  <a:lnTo>
                    <a:pt x="317" y="10"/>
                  </a:lnTo>
                  <a:lnTo>
                    <a:pt x="277" y="0"/>
                  </a:lnTo>
                  <a:lnTo>
                    <a:pt x="244" y="12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7248960" y="1271520"/>
              <a:ext cx="908280" cy="1974960"/>
            </a:xfrm>
            <a:custGeom>
              <a:avLst/>
              <a:gdLst/>
              <a:ahLst/>
              <a:rect l="l" t="t" r="r" b="b"/>
              <a:pathLst>
                <a:path w="572" h="1244">
                  <a:moveTo>
                    <a:pt x="244" y="12"/>
                  </a:moveTo>
                  <a:cubicBezTo>
                    <a:pt x="224" y="31"/>
                    <a:pt x="184" y="69"/>
                    <a:pt x="156" y="112"/>
                  </a:cubicBezTo>
                  <a:cubicBezTo>
                    <a:pt x="128" y="155"/>
                    <a:pt x="99" y="206"/>
                    <a:pt x="76" y="268"/>
                  </a:cubicBezTo>
                  <a:cubicBezTo>
                    <a:pt x="53" y="330"/>
                    <a:pt x="28" y="409"/>
                    <a:pt x="16" y="481"/>
                  </a:cubicBezTo>
                  <a:cubicBezTo>
                    <a:pt x="4" y="553"/>
                    <a:pt x="0" y="635"/>
                    <a:pt x="4" y="703"/>
                  </a:cubicBezTo>
                  <a:cubicBezTo>
                    <a:pt x="8" y="771"/>
                    <a:pt x="25" y="834"/>
                    <a:pt x="41" y="891"/>
                  </a:cubicBezTo>
                  <a:cubicBezTo>
                    <a:pt x="57" y="948"/>
                    <a:pt x="69" y="989"/>
                    <a:pt x="101" y="1047"/>
                  </a:cubicBezTo>
                  <a:cubicBezTo>
                    <a:pt x="133" y="1105"/>
                    <a:pt x="202" y="1209"/>
                    <a:pt x="234" y="1242"/>
                  </a:cubicBezTo>
                  <a:lnTo>
                    <a:pt x="292" y="1244"/>
                  </a:lnTo>
                  <a:lnTo>
                    <a:pt x="324" y="1237"/>
                  </a:lnTo>
                  <a:lnTo>
                    <a:pt x="567" y="994"/>
                  </a:lnTo>
                  <a:lnTo>
                    <a:pt x="572" y="936"/>
                  </a:lnTo>
                  <a:lnTo>
                    <a:pt x="497" y="816"/>
                  </a:lnTo>
                  <a:lnTo>
                    <a:pt x="462" y="666"/>
                  </a:lnTo>
                  <a:lnTo>
                    <a:pt x="464" y="563"/>
                  </a:lnTo>
                  <a:lnTo>
                    <a:pt x="507" y="421"/>
                  </a:lnTo>
                  <a:lnTo>
                    <a:pt x="570" y="315"/>
                  </a:lnTo>
                  <a:lnTo>
                    <a:pt x="570" y="268"/>
                  </a:lnTo>
                  <a:lnTo>
                    <a:pt x="317" y="10"/>
                  </a:lnTo>
                  <a:lnTo>
                    <a:pt x="277" y="0"/>
                  </a:lnTo>
                  <a:lnTo>
                    <a:pt x="244" y="12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32320" y="858960"/>
              <a:ext cx="887400" cy="498600"/>
            </a:xfrm>
            <a:custGeom>
              <a:avLst/>
              <a:gdLst/>
              <a:ahLst/>
              <a:rect l="l" t="t" r="r" b="b"/>
              <a:pathLst>
                <a:path w="559" h="314">
                  <a:moveTo>
                    <a:pt x="20" y="40"/>
                  </a:moveTo>
                  <a:lnTo>
                    <a:pt x="155" y="8"/>
                  </a:lnTo>
                  <a:lnTo>
                    <a:pt x="288" y="0"/>
                  </a:lnTo>
                  <a:cubicBezTo>
                    <a:pt x="336" y="2"/>
                    <a:pt x="398" y="10"/>
                    <a:pt x="441" y="17"/>
                  </a:cubicBezTo>
                  <a:cubicBezTo>
                    <a:pt x="484" y="24"/>
                    <a:pt x="529" y="35"/>
                    <a:pt x="549" y="43"/>
                  </a:cubicBezTo>
                  <a:lnTo>
                    <a:pt x="559" y="68"/>
                  </a:lnTo>
                  <a:lnTo>
                    <a:pt x="471" y="311"/>
                  </a:lnTo>
                  <a:lnTo>
                    <a:pt x="443" y="314"/>
                  </a:lnTo>
                  <a:lnTo>
                    <a:pt x="411" y="308"/>
                  </a:lnTo>
                  <a:lnTo>
                    <a:pt x="375" y="298"/>
                  </a:lnTo>
                  <a:lnTo>
                    <a:pt x="298" y="293"/>
                  </a:lnTo>
                  <a:lnTo>
                    <a:pt x="203" y="296"/>
                  </a:lnTo>
                  <a:lnTo>
                    <a:pt x="143" y="308"/>
                  </a:lnTo>
                  <a:lnTo>
                    <a:pt x="117" y="314"/>
                  </a:lnTo>
                  <a:lnTo>
                    <a:pt x="83" y="313"/>
                  </a:lnTo>
                  <a:lnTo>
                    <a:pt x="0" y="70"/>
                  </a:lnTo>
                  <a:lnTo>
                    <a:pt x="6" y="58"/>
                  </a:lnTo>
                  <a:lnTo>
                    <a:pt x="20" y="4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6232320" y="3159360"/>
              <a:ext cx="887400" cy="498240"/>
            </a:xfrm>
            <a:custGeom>
              <a:avLst/>
              <a:gdLst/>
              <a:ahLst/>
              <a:rect l="l" t="t" r="r" b="b"/>
              <a:pathLst>
                <a:path w="559" h="314">
                  <a:moveTo>
                    <a:pt x="20" y="40"/>
                  </a:moveTo>
                  <a:lnTo>
                    <a:pt x="155" y="8"/>
                  </a:lnTo>
                  <a:lnTo>
                    <a:pt x="288" y="0"/>
                  </a:lnTo>
                  <a:cubicBezTo>
                    <a:pt x="336" y="2"/>
                    <a:pt x="398" y="10"/>
                    <a:pt x="441" y="17"/>
                  </a:cubicBezTo>
                  <a:cubicBezTo>
                    <a:pt x="484" y="24"/>
                    <a:pt x="529" y="35"/>
                    <a:pt x="549" y="43"/>
                  </a:cubicBezTo>
                  <a:lnTo>
                    <a:pt x="559" y="68"/>
                  </a:lnTo>
                  <a:lnTo>
                    <a:pt x="471" y="311"/>
                  </a:lnTo>
                  <a:lnTo>
                    <a:pt x="443" y="314"/>
                  </a:lnTo>
                  <a:lnTo>
                    <a:pt x="411" y="308"/>
                  </a:lnTo>
                  <a:lnTo>
                    <a:pt x="375" y="298"/>
                  </a:lnTo>
                  <a:lnTo>
                    <a:pt x="298" y="293"/>
                  </a:lnTo>
                  <a:lnTo>
                    <a:pt x="203" y="296"/>
                  </a:lnTo>
                  <a:lnTo>
                    <a:pt x="143" y="308"/>
                  </a:lnTo>
                  <a:lnTo>
                    <a:pt x="117" y="314"/>
                  </a:lnTo>
                  <a:lnTo>
                    <a:pt x="83" y="313"/>
                  </a:lnTo>
                  <a:lnTo>
                    <a:pt x="0" y="70"/>
                  </a:lnTo>
                  <a:lnTo>
                    <a:pt x="6" y="58"/>
                  </a:lnTo>
                  <a:lnTo>
                    <a:pt x="20" y="4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01480" y="395280"/>
            <a:ext cx="3726000" cy="3417840"/>
            <a:chOff x="501480" y="395280"/>
            <a:chExt cx="3726000" cy="3417840"/>
          </a:xfrm>
        </p:grpSpPr>
        <p:sp>
          <p:nvSpPr>
            <p:cNvPr id="163" name=""/>
            <p:cNvSpPr/>
            <p:nvPr/>
          </p:nvSpPr>
          <p:spPr>
            <a:xfrm>
              <a:off x="501480" y="395280"/>
              <a:ext cx="3726000" cy="3417840"/>
            </a:xfrm>
            <a:custGeom>
              <a:avLst/>
              <a:gdLst/>
              <a:ahLst/>
              <a:rect l="l" t="t" r="r" b="b"/>
              <a:pathLst>
                <a:path w="2661" h="2444">
                  <a:moveTo>
                    <a:pt x="24" y="653"/>
                  </a:moveTo>
                  <a:lnTo>
                    <a:pt x="0" y="726"/>
                  </a:lnTo>
                  <a:lnTo>
                    <a:pt x="24" y="2202"/>
                  </a:lnTo>
                  <a:lnTo>
                    <a:pt x="97" y="2347"/>
                  </a:lnTo>
                  <a:lnTo>
                    <a:pt x="218" y="2395"/>
                  </a:lnTo>
                  <a:lnTo>
                    <a:pt x="532" y="2444"/>
                  </a:lnTo>
                  <a:lnTo>
                    <a:pt x="2347" y="2444"/>
                  </a:lnTo>
                  <a:lnTo>
                    <a:pt x="2419" y="2419"/>
                  </a:lnTo>
                  <a:lnTo>
                    <a:pt x="2468" y="2323"/>
                  </a:lnTo>
                  <a:lnTo>
                    <a:pt x="2468" y="2105"/>
                  </a:lnTo>
                  <a:lnTo>
                    <a:pt x="2516" y="2081"/>
                  </a:lnTo>
                  <a:lnTo>
                    <a:pt x="2637" y="2057"/>
                  </a:lnTo>
                  <a:lnTo>
                    <a:pt x="2661" y="1984"/>
                  </a:lnTo>
                  <a:lnTo>
                    <a:pt x="2637" y="581"/>
                  </a:lnTo>
                  <a:lnTo>
                    <a:pt x="2589" y="508"/>
                  </a:lnTo>
                  <a:lnTo>
                    <a:pt x="2202" y="97"/>
                  </a:lnTo>
                  <a:lnTo>
                    <a:pt x="2129" y="49"/>
                  </a:lnTo>
                  <a:lnTo>
                    <a:pt x="2081" y="49"/>
                  </a:lnTo>
                  <a:lnTo>
                    <a:pt x="1621" y="49"/>
                  </a:lnTo>
                  <a:lnTo>
                    <a:pt x="1621" y="0"/>
                  </a:lnTo>
                  <a:lnTo>
                    <a:pt x="1065" y="0"/>
                  </a:lnTo>
                  <a:lnTo>
                    <a:pt x="677" y="0"/>
                  </a:lnTo>
                  <a:lnTo>
                    <a:pt x="557" y="73"/>
                  </a:lnTo>
                  <a:lnTo>
                    <a:pt x="48" y="605"/>
                  </a:lnTo>
                  <a:lnTo>
                    <a:pt x="0" y="702"/>
                  </a:lnTo>
                  <a:lnTo>
                    <a:pt x="0" y="750"/>
                  </a:lnTo>
                  <a:lnTo>
                    <a:pt x="0" y="871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1084320" y="900000"/>
              <a:ext cx="2561400" cy="2585880"/>
              <a:chOff x="1084320" y="900000"/>
              <a:chExt cx="2561400" cy="2585880"/>
            </a:xfrm>
          </p:grpSpPr>
          <p:sp>
            <p:nvSpPr>
              <p:cNvPr id="165" name=""/>
              <p:cNvSpPr/>
              <p:nvPr/>
            </p:nvSpPr>
            <p:spPr>
              <a:xfrm>
                <a:off x="1114560" y="930240"/>
                <a:ext cx="2502720" cy="25538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419480" y="3023640"/>
                <a:ext cx="1917360" cy="462240"/>
              </a:xfrm>
              <a:custGeom>
                <a:avLst/>
                <a:gdLst/>
                <a:ahLst/>
                <a:rect l="l" t="t" r="r" b="b"/>
                <a:pathLst>
                  <a:path w="1196" h="288">
                    <a:moveTo>
                      <a:pt x="0" y="4"/>
                    </a:moveTo>
                    <a:lnTo>
                      <a:pt x="136" y="136"/>
                    </a:lnTo>
                    <a:lnTo>
                      <a:pt x="288" y="228"/>
                    </a:lnTo>
                    <a:lnTo>
                      <a:pt x="456" y="276"/>
                    </a:lnTo>
                    <a:lnTo>
                      <a:pt x="596" y="288"/>
                    </a:lnTo>
                    <a:lnTo>
                      <a:pt x="736" y="276"/>
                    </a:lnTo>
                    <a:lnTo>
                      <a:pt x="816" y="252"/>
                    </a:lnTo>
                    <a:lnTo>
                      <a:pt x="984" y="192"/>
                    </a:lnTo>
                    <a:lnTo>
                      <a:pt x="1100" y="100"/>
                    </a:lnTo>
                    <a:lnTo>
                      <a:pt x="1196" y="0"/>
                    </a:lnTo>
                  </a:path>
                </a:pathLst>
              </a:custGeom>
              <a:solidFill>
                <a:srgbClr val="ffffff">
                  <a:alpha val="49000"/>
                </a:srgbClr>
              </a:solidFill>
              <a:ln w="9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650680" y="960840"/>
                <a:ext cx="753120" cy="529560"/>
              </a:xfrm>
              <a:custGeom>
                <a:avLst/>
                <a:gdLst/>
                <a:ahLst/>
                <a:rect l="l" t="t" r="r" b="b"/>
                <a:pathLst>
                  <a:path w="470" h="330">
                    <a:moveTo>
                      <a:pt x="0" y="0"/>
                    </a:moveTo>
                    <a:lnTo>
                      <a:pt x="70" y="21"/>
                    </a:lnTo>
                    <a:lnTo>
                      <a:pt x="115" y="39"/>
                    </a:lnTo>
                    <a:lnTo>
                      <a:pt x="184" y="71"/>
                    </a:lnTo>
                    <a:lnTo>
                      <a:pt x="266" y="120"/>
                    </a:lnTo>
                    <a:cubicBezTo>
                      <a:pt x="295" y="141"/>
                      <a:pt x="333" y="174"/>
                      <a:pt x="358" y="198"/>
                    </a:cubicBezTo>
                    <a:cubicBezTo>
                      <a:pt x="383" y="222"/>
                      <a:pt x="399" y="239"/>
                      <a:pt x="418" y="261"/>
                    </a:cubicBezTo>
                    <a:cubicBezTo>
                      <a:pt x="437" y="283"/>
                      <a:pt x="459" y="316"/>
                      <a:pt x="470" y="330"/>
                    </a:cubicBezTo>
                  </a:path>
                </a:pathLst>
              </a:custGeom>
              <a:noFill/>
              <a:ln w="540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36840" y="1509840"/>
                <a:ext cx="280440" cy="1512000"/>
              </a:xfrm>
              <a:custGeom>
                <a:avLst/>
                <a:gdLst/>
                <a:ahLst/>
                <a:rect l="l" t="t" r="r" b="b"/>
                <a:pathLst>
                  <a:path w="175" h="942">
                    <a:moveTo>
                      <a:pt x="50" y="0"/>
                    </a:moveTo>
                    <a:cubicBezTo>
                      <a:pt x="64" y="28"/>
                      <a:pt x="114" y="122"/>
                      <a:pt x="132" y="170"/>
                    </a:cubicBezTo>
                    <a:cubicBezTo>
                      <a:pt x="150" y="218"/>
                      <a:pt x="153" y="249"/>
                      <a:pt x="160" y="290"/>
                    </a:cubicBezTo>
                    <a:cubicBezTo>
                      <a:pt x="167" y="331"/>
                      <a:pt x="173" y="373"/>
                      <a:pt x="174" y="418"/>
                    </a:cubicBezTo>
                    <a:cubicBezTo>
                      <a:pt x="175" y="463"/>
                      <a:pt x="170" y="519"/>
                      <a:pt x="164" y="562"/>
                    </a:cubicBezTo>
                    <a:cubicBezTo>
                      <a:pt x="158" y="605"/>
                      <a:pt x="154" y="633"/>
                      <a:pt x="140" y="674"/>
                    </a:cubicBezTo>
                    <a:cubicBezTo>
                      <a:pt x="126" y="715"/>
                      <a:pt x="105" y="765"/>
                      <a:pt x="82" y="810"/>
                    </a:cubicBezTo>
                    <a:cubicBezTo>
                      <a:pt x="59" y="855"/>
                      <a:pt x="17" y="915"/>
                      <a:pt x="0" y="942"/>
                    </a:cubicBezTo>
                  </a:path>
                </a:pathLst>
              </a:custGeom>
              <a:noFill/>
              <a:ln w="540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1084320" y="900000"/>
                <a:ext cx="2561400" cy="1893960"/>
                <a:chOff x="1084320" y="900000"/>
                <a:chExt cx="2561400" cy="189396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084320" y="2133000"/>
                  <a:ext cx="92880" cy="27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rot="20161800">
                  <a:off x="1199880" y="2748960"/>
                  <a:ext cx="92520" cy="27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rot="1818000">
                  <a:off x="1252080" y="1531800"/>
                  <a:ext cx="92880" cy="27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rot="3267600">
                  <a:off x="1698480" y="1095120"/>
                  <a:ext cx="92880" cy="27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rot="7157400">
                  <a:off x="2890800" y="1078560"/>
                  <a:ext cx="92880" cy="27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rot="5400000">
                  <a:off x="2291400" y="932760"/>
                  <a:ext cx="92880" cy="27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rot="8549400">
                  <a:off x="3350520" y="1496520"/>
                  <a:ext cx="92880" cy="27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0800000">
                  <a:off x="3552840" y="2087280"/>
                  <a:ext cx="92880" cy="27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rot="12584400">
                  <a:off x="3448440" y="2693880"/>
                  <a:ext cx="92880" cy="27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>
                  <a:off x="2638800" y="928440"/>
                  <a:ext cx="22320" cy="96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>
                  <a:off x="3168000" y="1232280"/>
                  <a:ext cx="62280" cy="76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551400" y="2408760"/>
                  <a:ext cx="76680" cy="12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>
                  <a:off x="3521880" y="1784520"/>
                  <a:ext cx="54360" cy="158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H="1">
                  <a:off x="1106640" y="2460240"/>
                  <a:ext cx="68400" cy="9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 flipV="1">
                  <a:off x="1114560" y="1819440"/>
                  <a:ext cx="87840" cy="21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H="1" flipV="1">
                  <a:off x="1454400" y="1262520"/>
                  <a:ext cx="78480" cy="67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H="1" flipV="1">
                  <a:off x="2014200" y="936360"/>
                  <a:ext cx="25200" cy="80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7" name=""/>
            <p:cNvGrpSpPr/>
            <p:nvPr/>
          </p:nvGrpSpPr>
          <p:grpSpPr>
            <a:xfrm>
              <a:off x="695160" y="473040"/>
              <a:ext cx="3139920" cy="3222360"/>
              <a:chOff x="695160" y="473040"/>
              <a:chExt cx="3139920" cy="3222360"/>
            </a:xfrm>
          </p:grpSpPr>
          <p:sp>
            <p:nvSpPr>
              <p:cNvPr id="188" name=""/>
              <p:cNvSpPr/>
              <p:nvPr/>
            </p:nvSpPr>
            <p:spPr>
              <a:xfrm>
                <a:off x="1315800" y="473040"/>
                <a:ext cx="153720" cy="155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411720" y="511560"/>
                <a:ext cx="153720" cy="155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681360" y="3539880"/>
                <a:ext cx="153720" cy="155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95160" y="3462480"/>
                <a:ext cx="153720" cy="155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245680" y="3345480"/>
                <a:ext cx="234000" cy="23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130480" y="1987920"/>
                <a:ext cx="465120" cy="42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780560" y="2142000"/>
                <a:ext cx="115560" cy="115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866680" y="2142000"/>
                <a:ext cx="115200" cy="115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819080" y="2647440"/>
                <a:ext cx="194040" cy="19404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130480" y="2647440"/>
                <a:ext cx="193680" cy="194040"/>
              </a:xfrm>
              <a:custGeom>
                <a:avLst/>
                <a:gdLst>
                  <a:gd name="textAreaLeft" fmla="*/ 9360 w 193680"/>
                  <a:gd name="textAreaRight" fmla="*/ 184320 w 193680"/>
                  <a:gd name="textAreaTop" fmla="*/ 9360 h 194040"/>
                  <a:gd name="textAreaBottom" fmla="*/ 184680 h 194040"/>
                </a:gdLst>
                <a:ahLst/>
                <a:rect l="textAreaLeft" t="textAreaTop" r="textAreaRight" b="textAreaBottom"/>
                <a:pathLst>
                  <a:path w="21600" h="21640">
                    <a:moveTo>
                      <a:pt x="3600" y="0"/>
                    </a:moveTo>
                    <a:arcTo wR="3600" hR="3600" stAng="16200000" swAng="-5400000"/>
                    <a:lnTo>
                      <a:pt x="0" y="18040"/>
                    </a:lnTo>
                    <a:arcTo wR="3600" hR="3600" stAng="10800000" swAng="-5400000"/>
                    <a:lnTo>
                      <a:pt x="18000" y="2164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401560" y="2647440"/>
                <a:ext cx="194040" cy="19404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712600" y="2647440"/>
                <a:ext cx="194040" cy="19404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819080" y="1560960"/>
                <a:ext cx="1047240" cy="19368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2712960" y="3036960"/>
              <a:ext cx="85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MP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55600" y="2933640"/>
              <a:ext cx="5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0040" y="258444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4120" y="193032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8200" y="124308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08240" y="74124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075040" y="51444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805120" y="66348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59240" y="258768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75160" y="181944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81480" y="116352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308240" y="4503600"/>
            <a:ext cx="1574640" cy="1574640"/>
            <a:chOff x="1308240" y="4503600"/>
            <a:chExt cx="1574640" cy="1574640"/>
          </a:xfrm>
        </p:grpSpPr>
        <p:sp>
          <p:nvSpPr>
            <p:cNvPr id="213" name=""/>
            <p:cNvSpPr/>
            <p:nvPr/>
          </p:nvSpPr>
          <p:spPr>
            <a:xfrm>
              <a:off x="1308240" y="4503600"/>
              <a:ext cx="1574640" cy="1574640"/>
            </a:xfrm>
            <a:custGeom>
              <a:avLst/>
              <a:gdLst/>
              <a:ahLst/>
              <a:rect l="l" t="t" r="r" b="b"/>
              <a:pathLst>
                <a:path w="992" h="992">
                  <a:moveTo>
                    <a:pt x="0" y="291"/>
                  </a:moveTo>
                  <a:lnTo>
                    <a:pt x="0" y="992"/>
                  </a:lnTo>
                  <a:lnTo>
                    <a:pt x="968" y="992"/>
                  </a:lnTo>
                  <a:lnTo>
                    <a:pt x="992" y="895"/>
                  </a:lnTo>
                  <a:lnTo>
                    <a:pt x="968" y="605"/>
                  </a:lnTo>
                  <a:lnTo>
                    <a:pt x="871" y="605"/>
                  </a:lnTo>
                  <a:cubicBezTo>
                    <a:pt x="847" y="597"/>
                    <a:pt x="821" y="594"/>
                    <a:pt x="799" y="581"/>
                  </a:cubicBezTo>
                  <a:cubicBezTo>
                    <a:pt x="793" y="578"/>
                    <a:pt x="796" y="562"/>
                    <a:pt x="796" y="562"/>
                  </a:cubicBezTo>
                  <a:lnTo>
                    <a:pt x="750" y="484"/>
                  </a:lnTo>
                  <a:lnTo>
                    <a:pt x="799" y="363"/>
                  </a:lnTo>
                  <a:lnTo>
                    <a:pt x="871" y="315"/>
                  </a:lnTo>
                  <a:lnTo>
                    <a:pt x="968" y="315"/>
                  </a:lnTo>
                  <a:lnTo>
                    <a:pt x="968" y="0"/>
                  </a:lnTo>
                  <a:lnTo>
                    <a:pt x="169" y="0"/>
                  </a:lnTo>
                  <a:lnTo>
                    <a:pt x="73" y="49"/>
                  </a:lnTo>
                  <a:lnTo>
                    <a:pt x="49" y="97"/>
                  </a:lnTo>
                  <a:lnTo>
                    <a:pt x="49" y="291"/>
                  </a:lnTo>
                  <a:cubicBezTo>
                    <a:pt x="33" y="291"/>
                    <a:pt x="16" y="291"/>
                    <a:pt x="0" y="291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4" name=""/>
            <p:cNvGraphicFramePr/>
            <p:nvPr/>
          </p:nvGraphicFramePr>
          <p:xfrm>
            <a:off x="1960560" y="5041440"/>
            <a:ext cx="480960" cy="430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60560" y="5041440"/>
                      <a:ext cx="480960" cy="43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2652840" y="4543200"/>
              <a:ext cx="1537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52840" y="5886000"/>
              <a:ext cx="15372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00120" y="4628880"/>
              <a:ext cx="34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 Black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00120" y="5617800"/>
              <a:ext cx="34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 Black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6200000">
              <a:off x="1307880" y="5233680"/>
              <a:ext cx="1114560" cy="114120"/>
            </a:xfrm>
            <a:custGeom>
              <a:avLst/>
              <a:gdLst>
                <a:gd name="textAreaLeft" fmla="*/ 133200 w 1114560"/>
                <a:gd name="textAreaRight" fmla="*/ 981360 w 1114560"/>
                <a:gd name="textAreaTop" fmla="*/ 13320 h 114120"/>
                <a:gd name="textAreaBottom" fmla="*/ 1008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04" y="21600"/>
                  </a:lnTo>
                  <a:lnTo>
                    <a:pt x="1496" y="2160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195800">
              <a:off x="1730160" y="4925520"/>
              <a:ext cx="230040" cy="3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20953200">
              <a:off x="1730520" y="5387760"/>
              <a:ext cx="230040" cy="3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20382000">
              <a:off x="1768320" y="5655600"/>
              <a:ext cx="230040" cy="3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341960" y="4503600"/>
            <a:ext cx="1574640" cy="1766880"/>
            <a:chOff x="4341960" y="4503600"/>
            <a:chExt cx="1574640" cy="1766880"/>
          </a:xfrm>
        </p:grpSpPr>
        <p:sp>
          <p:nvSpPr>
            <p:cNvPr id="225" name=""/>
            <p:cNvSpPr/>
            <p:nvPr/>
          </p:nvSpPr>
          <p:spPr>
            <a:xfrm>
              <a:off x="4341960" y="4503600"/>
              <a:ext cx="1574640" cy="1766880"/>
            </a:xfrm>
            <a:custGeom>
              <a:avLst/>
              <a:gdLst/>
              <a:ahLst/>
              <a:rect l="l" t="t" r="r" b="b"/>
              <a:pathLst>
                <a:path w="1016" h="1137">
                  <a:moveTo>
                    <a:pt x="0" y="48"/>
                  </a:moveTo>
                  <a:lnTo>
                    <a:pt x="0" y="798"/>
                  </a:lnTo>
                  <a:lnTo>
                    <a:pt x="48" y="822"/>
                  </a:lnTo>
                  <a:lnTo>
                    <a:pt x="72" y="895"/>
                  </a:lnTo>
                  <a:lnTo>
                    <a:pt x="72" y="1064"/>
                  </a:lnTo>
                  <a:lnTo>
                    <a:pt x="169" y="1137"/>
                  </a:lnTo>
                  <a:lnTo>
                    <a:pt x="968" y="1137"/>
                  </a:lnTo>
                  <a:lnTo>
                    <a:pt x="1016" y="1040"/>
                  </a:lnTo>
                  <a:lnTo>
                    <a:pt x="1016" y="677"/>
                  </a:lnTo>
                  <a:lnTo>
                    <a:pt x="871" y="677"/>
                  </a:lnTo>
                  <a:lnTo>
                    <a:pt x="798" y="605"/>
                  </a:lnTo>
                  <a:lnTo>
                    <a:pt x="798" y="508"/>
                  </a:lnTo>
                  <a:lnTo>
                    <a:pt x="822" y="435"/>
                  </a:lnTo>
                  <a:lnTo>
                    <a:pt x="943" y="411"/>
                  </a:lnTo>
                  <a:lnTo>
                    <a:pt x="1016" y="387"/>
                  </a:lnTo>
                  <a:lnTo>
                    <a:pt x="992" y="0"/>
                  </a:lnTo>
                  <a:lnTo>
                    <a:pt x="72" y="0"/>
                  </a:lnTo>
                  <a:lnTo>
                    <a:pt x="0" y="48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6200000">
              <a:off x="4359960" y="5252040"/>
              <a:ext cx="1114200" cy="153720"/>
            </a:xfrm>
            <a:custGeom>
              <a:avLst/>
              <a:gdLst>
                <a:gd name="textAreaLeft" fmla="*/ 132840 w 1114200"/>
                <a:gd name="textAreaRight" fmla="*/ 981360 w 1114200"/>
                <a:gd name="textAreaTop" fmla="*/ 18360 h 153720"/>
                <a:gd name="textAreaBottom" fmla="*/ 135360 h 15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04" y="21600"/>
                  </a:lnTo>
                  <a:lnTo>
                    <a:pt x="1496" y="2160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33840" y="4657680"/>
              <a:ext cx="46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 Black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95680" y="5656320"/>
              <a:ext cx="46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 Black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25720" y="5310360"/>
              <a:ext cx="345960" cy="3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9"/>
            <a:stretch/>
          </p:blipFill>
          <p:spPr>
            <a:xfrm>
              <a:off x="5072040" y="5118120"/>
              <a:ext cx="34704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686200" y="4579920"/>
              <a:ext cx="152280" cy="15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86200" y="6040440"/>
              <a:ext cx="152280" cy="15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06:49:01Z</dcterms:created>
  <dc:creator>William D. Flint</dc:creator>
  <dc:description/>
  <dc:language>en-US</dc:language>
  <cp:lastModifiedBy>Betsy Flint</cp:lastModifiedBy>
  <dcterms:modified xsi:type="dcterms:W3CDTF">2004-07-27T13:28:00Z</dcterms:modified>
  <cp:revision>2</cp:revision>
  <dc:subject/>
  <dc:title>Slide 1</dc:title>
</cp:coreProperties>
</file>