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076-DE85-4897-A595-C824C96D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5D1-4AD2-4937-99A4-A605F850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6DC-E980-4BA5-84A9-22A8754E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435-7F80-4542-B70E-AD260A29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4A9-5031-48A8-A983-7CDCC43E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63E-BD46-4E27-918C-EFA5C85C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104-E9F2-4AF6-AF93-D2070ADA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BD7-7F5C-4CA9-9164-F0326986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B95-5477-4D5C-BE99-7C381345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191-12BB-4879-A5B7-15935152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A26-246B-4BB9-8408-DAF7E860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6EC-222D-435E-BEB4-6970FC42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28AE-1A21-4568-8783-1CAD6E661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68320" y="67320"/>
            <a:ext cx="4390560" cy="4383720"/>
            <a:chOff x="4468320" y="67320"/>
            <a:chExt cx="4390560" cy="4383720"/>
          </a:xfrm>
        </p:grpSpPr>
        <p:grpSp>
          <p:nvGrpSpPr>
            <p:cNvPr id="42" name=""/>
            <p:cNvGrpSpPr/>
            <p:nvPr/>
          </p:nvGrpSpPr>
          <p:grpSpPr>
            <a:xfrm>
              <a:off x="4468320" y="67320"/>
              <a:ext cx="4390560" cy="4383720"/>
              <a:chOff x="4468320" y="67320"/>
              <a:chExt cx="4390560" cy="4383720"/>
            </a:xfrm>
          </p:grpSpPr>
          <p:sp>
            <p:nvSpPr>
              <p:cNvPr id="43" name=""/>
              <p:cNvSpPr/>
              <p:nvPr/>
            </p:nvSpPr>
            <p:spPr>
              <a:xfrm>
                <a:off x="4819680" y="357120"/>
                <a:ext cx="3724200" cy="3495600"/>
              </a:xfrm>
              <a:custGeom>
                <a:avLst/>
                <a:gdLst/>
                <a:ahLst/>
                <a:rect l="l" t="t" r="r" b="b"/>
                <a:pathLst>
                  <a:path w="2346" h="2202">
                    <a:moveTo>
                      <a:pt x="0" y="436"/>
                    </a:moveTo>
                    <a:lnTo>
                      <a:pt x="24" y="1984"/>
                    </a:lnTo>
                    <a:lnTo>
                      <a:pt x="72" y="2105"/>
                    </a:lnTo>
                    <a:lnTo>
                      <a:pt x="145" y="2153"/>
                    </a:lnTo>
                    <a:lnTo>
                      <a:pt x="242" y="2177"/>
                    </a:lnTo>
                    <a:lnTo>
                      <a:pt x="967" y="2202"/>
                    </a:lnTo>
                    <a:lnTo>
                      <a:pt x="1379" y="2202"/>
                    </a:lnTo>
                    <a:lnTo>
                      <a:pt x="2177" y="2105"/>
                    </a:lnTo>
                    <a:lnTo>
                      <a:pt x="2298" y="2032"/>
                    </a:lnTo>
                    <a:lnTo>
                      <a:pt x="2346" y="1887"/>
                    </a:lnTo>
                    <a:lnTo>
                      <a:pt x="2322" y="823"/>
                    </a:lnTo>
                    <a:lnTo>
                      <a:pt x="2322" y="605"/>
                    </a:lnTo>
                    <a:lnTo>
                      <a:pt x="2274" y="532"/>
                    </a:lnTo>
                    <a:lnTo>
                      <a:pt x="1984" y="242"/>
                    </a:lnTo>
                    <a:lnTo>
                      <a:pt x="1790" y="49"/>
                    </a:lnTo>
                    <a:lnTo>
                      <a:pt x="1742" y="0"/>
                    </a:lnTo>
                    <a:lnTo>
                      <a:pt x="701" y="24"/>
                    </a:lnTo>
                    <a:lnTo>
                      <a:pt x="629" y="49"/>
                    </a:lnTo>
                    <a:lnTo>
                      <a:pt x="629" y="121"/>
                    </a:lnTo>
                    <a:lnTo>
                      <a:pt x="266" y="145"/>
                    </a:lnTo>
                    <a:lnTo>
                      <a:pt x="169" y="169"/>
                    </a:lnTo>
                    <a:lnTo>
                      <a:pt x="97" y="218"/>
                    </a:lnTo>
                    <a:lnTo>
                      <a:pt x="48" y="266"/>
                    </a:lnTo>
                    <a:lnTo>
                      <a:pt x="0" y="363"/>
                    </a:lnTo>
                    <a:lnTo>
                      <a:pt x="0" y="43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37520" y="3390840"/>
                <a:ext cx="15408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507440" y="473040"/>
                <a:ext cx="15372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126040" y="741240"/>
                <a:ext cx="15408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049720" y="3506760"/>
                <a:ext cx="15408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432480" y="2048040"/>
                <a:ext cx="460440" cy="46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360" y="223992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23320" y="220032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468320" y="67320"/>
                <a:ext cx="4390560" cy="4383720"/>
                <a:chOff x="4468320" y="67320"/>
                <a:chExt cx="4390560" cy="4383720"/>
              </a:xfrm>
            </p:grpSpPr>
            <p:sp>
              <p:nvSpPr>
                <p:cNvPr id="52" name=""/>
                <p:cNvSpPr/>
                <p:nvPr/>
              </p:nvSpPr>
              <p:spPr>
                <a:xfrm flipV="1" rot="9033000">
                  <a:off x="5049000" y="653040"/>
                  <a:ext cx="3228840" cy="3211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0" y="13602"/>
                      </a:moveTo>
                      <a:arcTo wR="10800" hR="10800" stAng="9897842" swAng="113524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0" y="13602"/>
                      </a:moveTo>
                      <a:arcTo wR="10800" hR="10800" stAng="9897842" swAng="11352487"/>
                    </a:path>
                  </a:pathLst>
                </a:custGeom>
                <a:noFill/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4740600">
                  <a:off x="5900760" y="1089720"/>
                  <a:ext cx="2667240" cy="20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71" y="1"/>
                      </a:moveTo>
                      <a:arcTo wR="10800" hR="10800" stAng="-5441171" swAng="34323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71" y="1"/>
                      </a:moveTo>
                      <a:arcTo wR="10800" hR="10800" stAng="-5441171" swAng="3432390"/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rot="985200">
                  <a:off x="4944600" y="1925640"/>
                  <a:ext cx="2685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rot="20170800">
                  <a:off x="5027400" y="2771640"/>
                  <a:ext cx="268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2377200">
                  <a:off x="5333760" y="1158840"/>
                  <a:ext cx="268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4054800">
                  <a:off x="6064920" y="697680"/>
                  <a:ext cx="2685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6338400">
                  <a:off x="6909480" y="697320"/>
                  <a:ext cx="2685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9419000">
                  <a:off x="7677000" y="1120320"/>
                  <a:ext cx="268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20551200">
                  <a:off x="8061480" y="1888920"/>
                  <a:ext cx="268200" cy="3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985200">
                  <a:off x="8061120" y="2733840"/>
                  <a:ext cx="268200" cy="3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1445800">
                  <a:off x="4911840" y="234936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894800">
                  <a:off x="5065920" y="150480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3505200">
                  <a:off x="5680800" y="87048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5400000">
                  <a:off x="6506280" y="64044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0800000">
                  <a:off x="8138880" y="2273040"/>
                  <a:ext cx="268200" cy="7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9242400">
                  <a:off x="7925760" y="1447560"/>
                  <a:ext cx="268200" cy="7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6741600">
                  <a:off x="7312680" y="83232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5295960" y="277164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27760" y="210024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19640" y="140796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18240" y="8524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10520" y="62064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78760" y="8128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77360" y="271476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16960" y="13510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907400" y="20224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5878440" y="300672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 1000 RP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308240" y="4503600"/>
            <a:ext cx="1574640" cy="1574640"/>
            <a:chOff x="1308240" y="4503600"/>
            <a:chExt cx="1574640" cy="1574640"/>
          </a:xfrm>
        </p:grpSpPr>
        <p:sp>
          <p:nvSpPr>
            <p:cNvPr id="80" name=""/>
            <p:cNvSpPr/>
            <p:nvPr/>
          </p:nvSpPr>
          <p:spPr>
            <a:xfrm>
              <a:off x="1308240" y="4503600"/>
              <a:ext cx="1574640" cy="1574640"/>
            </a:xfrm>
            <a:custGeom>
              <a:avLst/>
              <a:gdLst/>
              <a:ahLst/>
              <a:rect l="l" t="t" r="r" b="b"/>
              <a:pathLst>
                <a:path w="992" h="992">
                  <a:moveTo>
                    <a:pt x="0" y="291"/>
                  </a:moveTo>
                  <a:lnTo>
                    <a:pt x="0" y="992"/>
                  </a:lnTo>
                  <a:lnTo>
                    <a:pt x="968" y="992"/>
                  </a:lnTo>
                  <a:lnTo>
                    <a:pt x="992" y="895"/>
                  </a:lnTo>
                  <a:lnTo>
                    <a:pt x="968" y="605"/>
                  </a:lnTo>
                  <a:lnTo>
                    <a:pt x="871" y="605"/>
                  </a:lnTo>
                  <a:cubicBezTo>
                    <a:pt x="847" y="597"/>
                    <a:pt x="821" y="594"/>
                    <a:pt x="799" y="581"/>
                  </a:cubicBezTo>
                  <a:cubicBezTo>
                    <a:pt x="793" y="578"/>
                    <a:pt x="796" y="562"/>
                    <a:pt x="796" y="562"/>
                  </a:cubicBezTo>
                  <a:lnTo>
                    <a:pt x="750" y="484"/>
                  </a:lnTo>
                  <a:lnTo>
                    <a:pt x="799" y="363"/>
                  </a:lnTo>
                  <a:lnTo>
                    <a:pt x="871" y="315"/>
                  </a:lnTo>
                  <a:lnTo>
                    <a:pt x="968" y="315"/>
                  </a:lnTo>
                  <a:lnTo>
                    <a:pt x="968" y="0"/>
                  </a:lnTo>
                  <a:lnTo>
                    <a:pt x="169" y="0"/>
                  </a:lnTo>
                  <a:lnTo>
                    <a:pt x="73" y="49"/>
                  </a:lnTo>
                  <a:lnTo>
                    <a:pt x="49" y="97"/>
                  </a:lnTo>
                  <a:lnTo>
                    <a:pt x="49" y="291"/>
                  </a:lnTo>
                  <a:cubicBezTo>
                    <a:pt x="33" y="291"/>
                    <a:pt x="16" y="291"/>
                    <a:pt x="0" y="29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1960560" y="5041440"/>
            <a:ext cx="480960" cy="4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60560" y="5041440"/>
                      <a:ext cx="480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2652840" y="4543200"/>
              <a:ext cx="1537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52840" y="5886000"/>
              <a:ext cx="15372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00120" y="462888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00120" y="561780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307880" y="5233680"/>
              <a:ext cx="1114560" cy="114120"/>
            </a:xfrm>
            <a:custGeom>
              <a:avLst/>
              <a:gdLst>
                <a:gd name="textAreaLeft" fmla="*/ 133200 w 1114560"/>
                <a:gd name="textAreaRight" fmla="*/ 981360 w 1114560"/>
                <a:gd name="textAreaTop" fmla="*/ 13320 h 114120"/>
                <a:gd name="textAreaBottom" fmla="*/ 1008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195800">
              <a:off x="1730160" y="4925520"/>
              <a:ext cx="23004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953200">
              <a:off x="1730520" y="538776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0382000">
              <a:off x="1768320" y="565560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341960" y="4503600"/>
            <a:ext cx="1574640" cy="1766880"/>
            <a:chOff x="4341960" y="4503600"/>
            <a:chExt cx="1574640" cy="1766880"/>
          </a:xfrm>
        </p:grpSpPr>
        <p:sp>
          <p:nvSpPr>
            <p:cNvPr id="92" name=""/>
            <p:cNvSpPr/>
            <p:nvPr/>
          </p:nvSpPr>
          <p:spPr>
            <a:xfrm>
              <a:off x="4341960" y="4503600"/>
              <a:ext cx="1574640" cy="1766880"/>
            </a:xfrm>
            <a:custGeom>
              <a:avLst/>
              <a:gdLst/>
              <a:ahLst/>
              <a:rect l="l" t="t" r="r" b="b"/>
              <a:pathLst>
                <a:path w="1016" h="1137">
                  <a:moveTo>
                    <a:pt x="0" y="48"/>
                  </a:moveTo>
                  <a:lnTo>
                    <a:pt x="0" y="798"/>
                  </a:lnTo>
                  <a:lnTo>
                    <a:pt x="48" y="822"/>
                  </a:lnTo>
                  <a:lnTo>
                    <a:pt x="72" y="895"/>
                  </a:lnTo>
                  <a:lnTo>
                    <a:pt x="72" y="1064"/>
                  </a:lnTo>
                  <a:lnTo>
                    <a:pt x="169" y="1137"/>
                  </a:lnTo>
                  <a:lnTo>
                    <a:pt x="968" y="1137"/>
                  </a:lnTo>
                  <a:lnTo>
                    <a:pt x="1016" y="1040"/>
                  </a:lnTo>
                  <a:lnTo>
                    <a:pt x="1016" y="677"/>
                  </a:lnTo>
                  <a:lnTo>
                    <a:pt x="871" y="677"/>
                  </a:lnTo>
                  <a:lnTo>
                    <a:pt x="798" y="605"/>
                  </a:lnTo>
                  <a:lnTo>
                    <a:pt x="798" y="508"/>
                  </a:lnTo>
                  <a:lnTo>
                    <a:pt x="822" y="435"/>
                  </a:lnTo>
                  <a:lnTo>
                    <a:pt x="943" y="411"/>
                  </a:lnTo>
                  <a:lnTo>
                    <a:pt x="1016" y="387"/>
                  </a:lnTo>
                  <a:lnTo>
                    <a:pt x="99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4359960" y="5252040"/>
              <a:ext cx="1114200" cy="153720"/>
            </a:xfrm>
            <a:custGeom>
              <a:avLst/>
              <a:gdLst>
                <a:gd name="textAreaLeft" fmla="*/ 132840 w 1114200"/>
                <a:gd name="textAreaRight" fmla="*/ 981360 w 1114200"/>
                <a:gd name="textAreaTop" fmla="*/ 18360 h 153720"/>
                <a:gd name="textAreaBottom" fmla="*/ 13536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33840" y="465768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 Blac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565632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Black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25720" y="5310360"/>
              <a:ext cx="34596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5072040" y="5118120"/>
              <a:ext cx="34704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686200" y="457992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86200" y="604044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23720" y="241200"/>
            <a:ext cx="3786480" cy="3505320"/>
            <a:chOff x="423720" y="241200"/>
            <a:chExt cx="3786480" cy="3505320"/>
          </a:xfrm>
        </p:grpSpPr>
        <p:sp>
          <p:nvSpPr>
            <p:cNvPr id="101" name=""/>
            <p:cNvSpPr/>
            <p:nvPr/>
          </p:nvSpPr>
          <p:spPr>
            <a:xfrm>
              <a:off x="423720" y="241200"/>
              <a:ext cx="3786480" cy="3505320"/>
            </a:xfrm>
            <a:custGeom>
              <a:avLst/>
              <a:gdLst/>
              <a:ahLst/>
              <a:rect l="l" t="t" r="r" b="b"/>
              <a:pathLst>
                <a:path w="2661" h="2444">
                  <a:moveTo>
                    <a:pt x="24" y="653"/>
                  </a:moveTo>
                  <a:lnTo>
                    <a:pt x="0" y="726"/>
                  </a:lnTo>
                  <a:lnTo>
                    <a:pt x="24" y="2202"/>
                  </a:lnTo>
                  <a:lnTo>
                    <a:pt x="97" y="2347"/>
                  </a:lnTo>
                  <a:lnTo>
                    <a:pt x="218" y="2395"/>
                  </a:lnTo>
                  <a:lnTo>
                    <a:pt x="532" y="2444"/>
                  </a:lnTo>
                  <a:lnTo>
                    <a:pt x="2347" y="2444"/>
                  </a:lnTo>
                  <a:lnTo>
                    <a:pt x="2419" y="2419"/>
                  </a:lnTo>
                  <a:lnTo>
                    <a:pt x="2468" y="2323"/>
                  </a:lnTo>
                  <a:lnTo>
                    <a:pt x="2468" y="2105"/>
                  </a:lnTo>
                  <a:lnTo>
                    <a:pt x="2516" y="2081"/>
                  </a:lnTo>
                  <a:lnTo>
                    <a:pt x="2637" y="2057"/>
                  </a:lnTo>
                  <a:lnTo>
                    <a:pt x="2661" y="1984"/>
                  </a:lnTo>
                  <a:lnTo>
                    <a:pt x="2637" y="581"/>
                  </a:lnTo>
                  <a:lnTo>
                    <a:pt x="2589" y="508"/>
                  </a:lnTo>
                  <a:lnTo>
                    <a:pt x="2202" y="97"/>
                  </a:lnTo>
                  <a:lnTo>
                    <a:pt x="2129" y="49"/>
                  </a:lnTo>
                  <a:lnTo>
                    <a:pt x="2081" y="49"/>
                  </a:lnTo>
                  <a:lnTo>
                    <a:pt x="1621" y="49"/>
                  </a:lnTo>
                  <a:lnTo>
                    <a:pt x="1621" y="0"/>
                  </a:lnTo>
                  <a:lnTo>
                    <a:pt x="1065" y="0"/>
                  </a:lnTo>
                  <a:lnTo>
                    <a:pt x="677" y="0"/>
                  </a:lnTo>
                  <a:lnTo>
                    <a:pt x="557" y="73"/>
                  </a:lnTo>
                  <a:lnTo>
                    <a:pt x="48" y="605"/>
                  </a:lnTo>
                  <a:lnTo>
                    <a:pt x="0" y="702"/>
                  </a:lnTo>
                  <a:lnTo>
                    <a:pt x="0" y="750"/>
                  </a:lnTo>
                  <a:lnTo>
                    <a:pt x="0" y="871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6080" y="458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9880" y="512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65040" y="6890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69600" y="601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42760" y="509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82240" y="7603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520" y="1739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760" y="1123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27080" y="2876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8680" y="2392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9240" y="216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1120" y="1469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720" y="971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2400" y="27097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015920" y="758880"/>
              <a:ext cx="2602800" cy="2650680"/>
              <a:chOff x="1015920" y="758880"/>
              <a:chExt cx="2602800" cy="2650680"/>
            </a:xfrm>
          </p:grpSpPr>
          <p:sp>
            <p:nvSpPr>
              <p:cNvPr id="117" name=""/>
              <p:cNvSpPr/>
              <p:nvPr/>
            </p:nvSpPr>
            <p:spPr>
              <a:xfrm>
                <a:off x="1046880" y="790200"/>
                <a:ext cx="2543040" cy="261792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56480" y="2935800"/>
                <a:ext cx="1948320" cy="473760"/>
              </a:xfrm>
              <a:custGeom>
                <a:avLst/>
                <a:gdLst/>
                <a:ahLst/>
                <a:rect l="l" t="t" r="r" b="b"/>
                <a:pathLst>
                  <a:path w="1196" h="288">
                    <a:moveTo>
                      <a:pt x="0" y="4"/>
                    </a:moveTo>
                    <a:lnTo>
                      <a:pt x="136" y="136"/>
                    </a:lnTo>
                    <a:lnTo>
                      <a:pt x="288" y="228"/>
                    </a:lnTo>
                    <a:lnTo>
                      <a:pt x="456" y="276"/>
                    </a:lnTo>
                    <a:lnTo>
                      <a:pt x="596" y="288"/>
                    </a:lnTo>
                    <a:lnTo>
                      <a:pt x="736" y="276"/>
                    </a:lnTo>
                    <a:lnTo>
                      <a:pt x="816" y="252"/>
                    </a:lnTo>
                    <a:lnTo>
                      <a:pt x="984" y="192"/>
                    </a:lnTo>
                    <a:lnTo>
                      <a:pt x="1100" y="100"/>
                    </a:lnTo>
                    <a:lnTo>
                      <a:pt x="1196" y="0"/>
                    </a:lnTo>
                  </a:path>
                </a:pathLst>
              </a:custGeom>
              <a:solidFill>
                <a:srgbClr val="ffffff">
                  <a:alpha val="49000"/>
                </a:srgbClr>
              </a:solidFill>
              <a:ln w="9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07840" y="821520"/>
                <a:ext cx="765360" cy="542880"/>
              </a:xfrm>
              <a:custGeom>
                <a:avLst/>
                <a:gdLst/>
                <a:ahLst/>
                <a:rect l="l" t="t" r="r" b="b"/>
                <a:pathLst>
                  <a:path w="470" h="330">
                    <a:moveTo>
                      <a:pt x="0" y="0"/>
                    </a:moveTo>
                    <a:lnTo>
                      <a:pt x="70" y="21"/>
                    </a:lnTo>
                    <a:lnTo>
                      <a:pt x="115" y="39"/>
                    </a:lnTo>
                    <a:lnTo>
                      <a:pt x="184" y="71"/>
                    </a:lnTo>
                    <a:lnTo>
                      <a:pt x="266" y="120"/>
                    </a:lnTo>
                    <a:cubicBezTo>
                      <a:pt x="295" y="141"/>
                      <a:pt x="333" y="174"/>
                      <a:pt x="358" y="198"/>
                    </a:cubicBezTo>
                    <a:cubicBezTo>
                      <a:pt x="383" y="222"/>
                      <a:pt x="399" y="239"/>
                      <a:pt x="418" y="261"/>
                    </a:cubicBezTo>
                    <a:cubicBezTo>
                      <a:pt x="437" y="283"/>
                      <a:pt x="459" y="316"/>
                      <a:pt x="470" y="330"/>
                    </a:cubicBezTo>
                  </a:path>
                </a:pathLst>
              </a:custGeom>
              <a:noFill/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04800" y="1384200"/>
                <a:ext cx="285120" cy="1550160"/>
              </a:xfrm>
              <a:custGeom>
                <a:avLst/>
                <a:gdLst/>
                <a:ahLst/>
                <a:rect l="l" t="t" r="r" b="b"/>
                <a:pathLst>
                  <a:path w="175" h="942">
                    <a:moveTo>
                      <a:pt x="50" y="0"/>
                    </a:moveTo>
                    <a:cubicBezTo>
                      <a:pt x="64" y="28"/>
                      <a:pt x="114" y="122"/>
                      <a:pt x="132" y="170"/>
                    </a:cubicBezTo>
                    <a:cubicBezTo>
                      <a:pt x="150" y="218"/>
                      <a:pt x="153" y="249"/>
                      <a:pt x="160" y="290"/>
                    </a:cubicBezTo>
                    <a:cubicBezTo>
                      <a:pt x="167" y="331"/>
                      <a:pt x="173" y="373"/>
                      <a:pt x="174" y="418"/>
                    </a:cubicBezTo>
                    <a:cubicBezTo>
                      <a:pt x="175" y="463"/>
                      <a:pt x="170" y="519"/>
                      <a:pt x="164" y="562"/>
                    </a:cubicBezTo>
                    <a:cubicBezTo>
                      <a:pt x="158" y="605"/>
                      <a:pt x="154" y="633"/>
                      <a:pt x="140" y="674"/>
                    </a:cubicBezTo>
                    <a:cubicBezTo>
                      <a:pt x="126" y="715"/>
                      <a:pt x="105" y="765"/>
                      <a:pt x="82" y="810"/>
                    </a:cubicBezTo>
                    <a:cubicBezTo>
                      <a:pt x="59" y="855"/>
                      <a:pt x="17" y="915"/>
                      <a:pt x="0" y="942"/>
                    </a:cubicBezTo>
                  </a:path>
                </a:pathLst>
              </a:custGeom>
              <a:noFill/>
              <a:ln w="540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1015920" y="758880"/>
                <a:ext cx="2602800" cy="1940760"/>
                <a:chOff x="1015920" y="758880"/>
                <a:chExt cx="2602800" cy="19407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015920" y="202248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20161800">
                  <a:off x="1133280" y="2653920"/>
                  <a:ext cx="9396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18000">
                  <a:off x="1186560" y="140652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3267600">
                  <a:off x="1639800" y="958680"/>
                  <a:ext cx="95400" cy="27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7157400">
                  <a:off x="2851560" y="941760"/>
                  <a:ext cx="95400" cy="27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5400000">
                  <a:off x="2242440" y="792720"/>
                  <a:ext cx="95400" cy="27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8549400">
                  <a:off x="3318480" y="136980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0800000">
                  <a:off x="3524400" y="197568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2584400">
                  <a:off x="3418200" y="259776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2595240" y="788040"/>
                  <a:ext cx="22680" cy="9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3133440" y="1099440"/>
                  <a:ext cx="63360" cy="78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522960" y="2305440"/>
                  <a:ext cx="77760" cy="1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3493080" y="1665360"/>
                  <a:ext cx="55080" cy="1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1038240" y="2358000"/>
                  <a:ext cx="69480" cy="9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1046880" y="1701360"/>
                  <a:ext cx="89280" cy="22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1391760" y="1130400"/>
                  <a:ext cx="79560" cy="68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>
                  <a:off x="1960200" y="795960"/>
                  <a:ext cx="25560" cy="82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620640" y="320760"/>
              <a:ext cx="3190680" cy="3304800"/>
              <a:chOff x="620640" y="320760"/>
              <a:chExt cx="3190680" cy="3304800"/>
            </a:xfrm>
          </p:grpSpPr>
          <p:sp>
            <p:nvSpPr>
              <p:cNvPr id="140" name=""/>
              <p:cNvSpPr/>
              <p:nvPr/>
            </p:nvSpPr>
            <p:spPr>
              <a:xfrm>
                <a:off x="1251360" y="320760"/>
                <a:ext cx="156240" cy="15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81120" y="360000"/>
                <a:ext cx="156240" cy="159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55080" y="3466080"/>
                <a:ext cx="156240" cy="15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0640" y="3386880"/>
                <a:ext cx="156240" cy="15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196360" y="3266640"/>
                <a:ext cx="237960" cy="23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79360" y="1874520"/>
                <a:ext cx="472680" cy="43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23680" y="2032200"/>
                <a:ext cx="117360" cy="11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27440" y="2032200"/>
                <a:ext cx="117000" cy="11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62920" y="2550600"/>
                <a:ext cx="197280" cy="199080"/>
              </a:xfrm>
              <a:custGeom>
                <a:avLst/>
                <a:gdLst>
                  <a:gd name="textAreaLeft" fmla="*/ 9360 w 197280"/>
                  <a:gd name="textAreaRight" fmla="*/ 187920 w 197280"/>
                  <a:gd name="textAreaTop" fmla="*/ 9360 h 199080"/>
                  <a:gd name="textAreaBottom" fmla="*/ 189720 h 199080"/>
                </a:gdLst>
                <a:ahLst/>
                <a:rect l="textAreaLeft" t="textAreaTop" r="textAreaRight" b="textAreaBottom"/>
                <a:pathLst>
                  <a:path w="21600" h="21797">
                    <a:moveTo>
                      <a:pt x="3600" y="0"/>
                    </a:moveTo>
                    <a:arcTo wR="3600" hR="3600" stAng="16200000" swAng="-5400000"/>
                    <a:lnTo>
                      <a:pt x="0" y="18197"/>
                    </a:lnTo>
                    <a:arcTo wR="3600" hR="3600" stAng="10800000" swAng="-5400000"/>
                    <a:lnTo>
                      <a:pt x="18000" y="217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79360" y="2550600"/>
                <a:ext cx="196920" cy="199080"/>
              </a:xfrm>
              <a:custGeom>
                <a:avLst/>
                <a:gdLst>
                  <a:gd name="textAreaLeft" fmla="*/ 9360 w 196920"/>
                  <a:gd name="textAreaRight" fmla="*/ 187560 w 196920"/>
                  <a:gd name="textAreaTop" fmla="*/ 9360 h 199080"/>
                  <a:gd name="textAreaBottom" fmla="*/ 189720 h 199080"/>
                </a:gdLst>
                <a:ahLst/>
                <a:rect l="textAreaLeft" t="textAreaTop" r="textAreaRight" b="textAreaBottom"/>
                <a:pathLst>
                  <a:path w="21600" h="21836">
                    <a:moveTo>
                      <a:pt x="3600" y="0"/>
                    </a:moveTo>
                    <a:arcTo wR="3600" hR="3600" stAng="16200000" swAng="-5400000"/>
                    <a:lnTo>
                      <a:pt x="0" y="18236"/>
                    </a:lnTo>
                    <a:arcTo wR="3600" hR="3600" stAng="10800000" swAng="-5400000"/>
                    <a:lnTo>
                      <a:pt x="18000" y="218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54400" y="2550600"/>
                <a:ext cx="197280" cy="199080"/>
              </a:xfrm>
              <a:custGeom>
                <a:avLst/>
                <a:gdLst>
                  <a:gd name="textAreaLeft" fmla="*/ 9360 w 197280"/>
                  <a:gd name="textAreaRight" fmla="*/ 187920 w 197280"/>
                  <a:gd name="textAreaTop" fmla="*/ 9360 h 199080"/>
                  <a:gd name="textAreaBottom" fmla="*/ 189720 h 199080"/>
                </a:gdLst>
                <a:ahLst/>
                <a:rect l="textAreaLeft" t="textAreaTop" r="textAreaRight" b="textAreaBottom"/>
                <a:pathLst>
                  <a:path w="21600" h="21797">
                    <a:moveTo>
                      <a:pt x="3600" y="0"/>
                    </a:moveTo>
                    <a:arcTo wR="3600" hR="3600" stAng="16200000" swAng="-5400000"/>
                    <a:lnTo>
                      <a:pt x="0" y="18197"/>
                    </a:lnTo>
                    <a:arcTo wR="3600" hR="3600" stAng="10800000" swAng="-5400000"/>
                    <a:lnTo>
                      <a:pt x="18000" y="217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70480" y="2550600"/>
                <a:ext cx="197280" cy="199080"/>
              </a:xfrm>
              <a:custGeom>
                <a:avLst/>
                <a:gdLst>
                  <a:gd name="textAreaLeft" fmla="*/ 9360 w 197280"/>
                  <a:gd name="textAreaRight" fmla="*/ 187920 w 197280"/>
                  <a:gd name="textAreaTop" fmla="*/ 9360 h 199080"/>
                  <a:gd name="textAreaBottom" fmla="*/ 189720 h 199080"/>
                </a:gdLst>
                <a:ahLst/>
                <a:rect l="textAreaLeft" t="textAreaTop" r="textAreaRight" b="textAreaBottom"/>
                <a:pathLst>
                  <a:path w="21600" h="21797">
                    <a:moveTo>
                      <a:pt x="3600" y="0"/>
                    </a:moveTo>
                    <a:arcTo wR="3600" hR="3600" stAng="16200000" swAng="-5400000"/>
                    <a:lnTo>
                      <a:pt x="0" y="18197"/>
                    </a:lnTo>
                    <a:arcTo wR="3600" hR="3600" stAng="10800000" swAng="-5400000"/>
                    <a:lnTo>
                      <a:pt x="18000" y="217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62920" y="1436760"/>
                <a:ext cx="1064160" cy="1987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671920" y="2949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23800" y="9320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5867280" y="1523880"/>
          <a:ext cx="170496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523880"/>
                    <a:ext cx="170496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819680" y="357120"/>
            <a:ext cx="3724200" cy="3495600"/>
          </a:xfrm>
          <a:custGeom>
            <a:avLst/>
            <a:gdLst/>
            <a:ahLst/>
            <a:rect l="l" t="t" r="r" b="b"/>
            <a:pathLst>
              <a:path w="2346" h="2202">
                <a:moveTo>
                  <a:pt x="0" y="436"/>
                </a:moveTo>
                <a:lnTo>
                  <a:pt x="24" y="1984"/>
                </a:lnTo>
                <a:lnTo>
                  <a:pt x="72" y="2105"/>
                </a:lnTo>
                <a:lnTo>
                  <a:pt x="145" y="2153"/>
                </a:lnTo>
                <a:lnTo>
                  <a:pt x="242" y="2177"/>
                </a:lnTo>
                <a:lnTo>
                  <a:pt x="967" y="2202"/>
                </a:lnTo>
                <a:lnTo>
                  <a:pt x="1379" y="2202"/>
                </a:lnTo>
                <a:lnTo>
                  <a:pt x="2177" y="2105"/>
                </a:lnTo>
                <a:lnTo>
                  <a:pt x="2298" y="2032"/>
                </a:lnTo>
                <a:lnTo>
                  <a:pt x="2346" y="1887"/>
                </a:lnTo>
                <a:lnTo>
                  <a:pt x="2322" y="823"/>
                </a:lnTo>
                <a:lnTo>
                  <a:pt x="2322" y="605"/>
                </a:lnTo>
                <a:lnTo>
                  <a:pt x="2274" y="532"/>
                </a:lnTo>
                <a:lnTo>
                  <a:pt x="1984" y="242"/>
                </a:lnTo>
                <a:lnTo>
                  <a:pt x="1790" y="49"/>
                </a:lnTo>
                <a:lnTo>
                  <a:pt x="1742" y="0"/>
                </a:lnTo>
                <a:lnTo>
                  <a:pt x="701" y="24"/>
                </a:lnTo>
                <a:lnTo>
                  <a:pt x="629" y="49"/>
                </a:lnTo>
                <a:lnTo>
                  <a:pt x="629" y="121"/>
                </a:lnTo>
                <a:lnTo>
                  <a:pt x="266" y="145"/>
                </a:lnTo>
                <a:lnTo>
                  <a:pt x="169" y="169"/>
                </a:lnTo>
                <a:lnTo>
                  <a:pt x="97" y="218"/>
                </a:lnTo>
                <a:lnTo>
                  <a:pt x="48" y="266"/>
                </a:lnTo>
                <a:lnTo>
                  <a:pt x="0" y="363"/>
                </a:lnTo>
                <a:lnTo>
                  <a:pt x="0" y="4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37520" y="3390840"/>
            <a:ext cx="15408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7440" y="473040"/>
            <a:ext cx="15372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26040" y="741240"/>
            <a:ext cx="15408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49720" y="3506760"/>
            <a:ext cx="154080" cy="154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181480" y="858960"/>
            <a:ext cx="2976120" cy="2798640"/>
            <a:chOff x="5181480" y="858960"/>
            <a:chExt cx="2976120" cy="2798640"/>
          </a:xfrm>
        </p:grpSpPr>
        <p:sp>
          <p:nvSpPr>
            <p:cNvPr id="163" name=""/>
            <p:cNvSpPr/>
            <p:nvPr/>
          </p:nvSpPr>
          <p:spPr>
            <a:xfrm>
              <a:off x="5181480" y="1265400"/>
              <a:ext cx="907920" cy="1974600"/>
            </a:xfrm>
            <a:custGeom>
              <a:avLst/>
              <a:gdLst/>
              <a:ahLst/>
              <a:rect l="l" t="t" r="r" b="b"/>
              <a:pathLst>
                <a:path w="572" h="1244">
                  <a:moveTo>
                    <a:pt x="244" y="12"/>
                  </a:moveTo>
                  <a:cubicBezTo>
                    <a:pt x="224" y="31"/>
                    <a:pt x="184" y="69"/>
                    <a:pt x="156" y="112"/>
                  </a:cubicBezTo>
                  <a:cubicBezTo>
                    <a:pt x="128" y="155"/>
                    <a:pt x="99" y="206"/>
                    <a:pt x="76" y="268"/>
                  </a:cubicBezTo>
                  <a:cubicBezTo>
                    <a:pt x="53" y="330"/>
                    <a:pt x="28" y="409"/>
                    <a:pt x="16" y="481"/>
                  </a:cubicBezTo>
                  <a:cubicBezTo>
                    <a:pt x="4" y="553"/>
                    <a:pt x="0" y="635"/>
                    <a:pt x="4" y="703"/>
                  </a:cubicBezTo>
                  <a:cubicBezTo>
                    <a:pt x="8" y="771"/>
                    <a:pt x="25" y="834"/>
                    <a:pt x="41" y="891"/>
                  </a:cubicBezTo>
                  <a:cubicBezTo>
                    <a:pt x="57" y="948"/>
                    <a:pt x="69" y="989"/>
                    <a:pt x="101" y="1047"/>
                  </a:cubicBezTo>
                  <a:cubicBezTo>
                    <a:pt x="133" y="1105"/>
                    <a:pt x="202" y="1209"/>
                    <a:pt x="234" y="1242"/>
                  </a:cubicBezTo>
                  <a:lnTo>
                    <a:pt x="292" y="1244"/>
                  </a:lnTo>
                  <a:lnTo>
                    <a:pt x="324" y="1237"/>
                  </a:lnTo>
                  <a:lnTo>
                    <a:pt x="567" y="994"/>
                  </a:lnTo>
                  <a:lnTo>
                    <a:pt x="572" y="936"/>
                  </a:lnTo>
                  <a:lnTo>
                    <a:pt x="497" y="816"/>
                  </a:lnTo>
                  <a:lnTo>
                    <a:pt x="462" y="666"/>
                  </a:lnTo>
                  <a:lnTo>
                    <a:pt x="464" y="563"/>
                  </a:lnTo>
                  <a:lnTo>
                    <a:pt x="507" y="421"/>
                  </a:lnTo>
                  <a:lnTo>
                    <a:pt x="570" y="315"/>
                  </a:lnTo>
                  <a:lnTo>
                    <a:pt x="570" y="268"/>
                  </a:lnTo>
                  <a:lnTo>
                    <a:pt x="317" y="10"/>
                  </a:lnTo>
                  <a:lnTo>
                    <a:pt x="277" y="0"/>
                  </a:lnTo>
                  <a:lnTo>
                    <a:pt x="244" y="1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248960" y="1271520"/>
              <a:ext cx="908280" cy="1974960"/>
            </a:xfrm>
            <a:custGeom>
              <a:avLst/>
              <a:gdLst/>
              <a:ahLst/>
              <a:rect l="l" t="t" r="r" b="b"/>
              <a:pathLst>
                <a:path w="572" h="1244">
                  <a:moveTo>
                    <a:pt x="244" y="12"/>
                  </a:moveTo>
                  <a:cubicBezTo>
                    <a:pt x="224" y="31"/>
                    <a:pt x="184" y="69"/>
                    <a:pt x="156" y="112"/>
                  </a:cubicBezTo>
                  <a:cubicBezTo>
                    <a:pt x="128" y="155"/>
                    <a:pt x="99" y="206"/>
                    <a:pt x="76" y="268"/>
                  </a:cubicBezTo>
                  <a:cubicBezTo>
                    <a:pt x="53" y="330"/>
                    <a:pt x="28" y="409"/>
                    <a:pt x="16" y="481"/>
                  </a:cubicBezTo>
                  <a:cubicBezTo>
                    <a:pt x="4" y="553"/>
                    <a:pt x="0" y="635"/>
                    <a:pt x="4" y="703"/>
                  </a:cubicBezTo>
                  <a:cubicBezTo>
                    <a:pt x="8" y="771"/>
                    <a:pt x="25" y="834"/>
                    <a:pt x="41" y="891"/>
                  </a:cubicBezTo>
                  <a:cubicBezTo>
                    <a:pt x="57" y="948"/>
                    <a:pt x="69" y="989"/>
                    <a:pt x="101" y="1047"/>
                  </a:cubicBezTo>
                  <a:cubicBezTo>
                    <a:pt x="133" y="1105"/>
                    <a:pt x="202" y="1209"/>
                    <a:pt x="234" y="1242"/>
                  </a:cubicBezTo>
                  <a:lnTo>
                    <a:pt x="292" y="1244"/>
                  </a:lnTo>
                  <a:lnTo>
                    <a:pt x="324" y="1237"/>
                  </a:lnTo>
                  <a:lnTo>
                    <a:pt x="567" y="994"/>
                  </a:lnTo>
                  <a:lnTo>
                    <a:pt x="572" y="936"/>
                  </a:lnTo>
                  <a:lnTo>
                    <a:pt x="497" y="816"/>
                  </a:lnTo>
                  <a:lnTo>
                    <a:pt x="462" y="666"/>
                  </a:lnTo>
                  <a:lnTo>
                    <a:pt x="464" y="563"/>
                  </a:lnTo>
                  <a:lnTo>
                    <a:pt x="507" y="421"/>
                  </a:lnTo>
                  <a:lnTo>
                    <a:pt x="570" y="315"/>
                  </a:lnTo>
                  <a:lnTo>
                    <a:pt x="570" y="268"/>
                  </a:lnTo>
                  <a:lnTo>
                    <a:pt x="317" y="10"/>
                  </a:lnTo>
                  <a:lnTo>
                    <a:pt x="277" y="0"/>
                  </a:lnTo>
                  <a:lnTo>
                    <a:pt x="244" y="1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32320" y="858960"/>
              <a:ext cx="887400" cy="498600"/>
            </a:xfrm>
            <a:custGeom>
              <a:avLst/>
              <a:gdLst/>
              <a:ahLst/>
              <a:rect l="l" t="t" r="r" b="b"/>
              <a:pathLst>
                <a:path w="559" h="314">
                  <a:moveTo>
                    <a:pt x="20" y="40"/>
                  </a:moveTo>
                  <a:lnTo>
                    <a:pt x="155" y="8"/>
                  </a:lnTo>
                  <a:lnTo>
                    <a:pt x="288" y="0"/>
                  </a:lnTo>
                  <a:cubicBezTo>
                    <a:pt x="336" y="2"/>
                    <a:pt x="398" y="10"/>
                    <a:pt x="441" y="17"/>
                  </a:cubicBezTo>
                  <a:cubicBezTo>
                    <a:pt x="484" y="24"/>
                    <a:pt x="529" y="35"/>
                    <a:pt x="549" y="43"/>
                  </a:cubicBezTo>
                  <a:lnTo>
                    <a:pt x="559" y="68"/>
                  </a:lnTo>
                  <a:lnTo>
                    <a:pt x="471" y="311"/>
                  </a:lnTo>
                  <a:lnTo>
                    <a:pt x="443" y="314"/>
                  </a:lnTo>
                  <a:lnTo>
                    <a:pt x="411" y="308"/>
                  </a:lnTo>
                  <a:lnTo>
                    <a:pt x="375" y="298"/>
                  </a:lnTo>
                  <a:lnTo>
                    <a:pt x="298" y="293"/>
                  </a:lnTo>
                  <a:lnTo>
                    <a:pt x="203" y="296"/>
                  </a:lnTo>
                  <a:lnTo>
                    <a:pt x="143" y="308"/>
                  </a:lnTo>
                  <a:lnTo>
                    <a:pt x="117" y="314"/>
                  </a:lnTo>
                  <a:lnTo>
                    <a:pt x="83" y="313"/>
                  </a:lnTo>
                  <a:lnTo>
                    <a:pt x="0" y="70"/>
                  </a:lnTo>
                  <a:lnTo>
                    <a:pt x="6" y="58"/>
                  </a:lnTo>
                  <a:lnTo>
                    <a:pt x="20" y="4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232320" y="3159360"/>
              <a:ext cx="887400" cy="498240"/>
            </a:xfrm>
            <a:custGeom>
              <a:avLst/>
              <a:gdLst/>
              <a:ahLst/>
              <a:rect l="l" t="t" r="r" b="b"/>
              <a:pathLst>
                <a:path w="559" h="314">
                  <a:moveTo>
                    <a:pt x="20" y="40"/>
                  </a:moveTo>
                  <a:lnTo>
                    <a:pt x="155" y="8"/>
                  </a:lnTo>
                  <a:lnTo>
                    <a:pt x="288" y="0"/>
                  </a:lnTo>
                  <a:cubicBezTo>
                    <a:pt x="336" y="2"/>
                    <a:pt x="398" y="10"/>
                    <a:pt x="441" y="17"/>
                  </a:cubicBezTo>
                  <a:cubicBezTo>
                    <a:pt x="484" y="24"/>
                    <a:pt x="529" y="35"/>
                    <a:pt x="549" y="43"/>
                  </a:cubicBezTo>
                  <a:lnTo>
                    <a:pt x="559" y="68"/>
                  </a:lnTo>
                  <a:lnTo>
                    <a:pt x="471" y="311"/>
                  </a:lnTo>
                  <a:lnTo>
                    <a:pt x="443" y="314"/>
                  </a:lnTo>
                  <a:lnTo>
                    <a:pt x="411" y="308"/>
                  </a:lnTo>
                  <a:lnTo>
                    <a:pt x="375" y="298"/>
                  </a:lnTo>
                  <a:lnTo>
                    <a:pt x="298" y="293"/>
                  </a:lnTo>
                  <a:lnTo>
                    <a:pt x="203" y="296"/>
                  </a:lnTo>
                  <a:lnTo>
                    <a:pt x="143" y="308"/>
                  </a:lnTo>
                  <a:lnTo>
                    <a:pt x="117" y="314"/>
                  </a:lnTo>
                  <a:lnTo>
                    <a:pt x="83" y="313"/>
                  </a:lnTo>
                  <a:lnTo>
                    <a:pt x="0" y="70"/>
                  </a:lnTo>
                  <a:lnTo>
                    <a:pt x="6" y="58"/>
                  </a:lnTo>
                  <a:lnTo>
                    <a:pt x="20" y="4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308240" y="4503600"/>
            <a:ext cx="1574640" cy="1574640"/>
            <a:chOff x="1308240" y="4503600"/>
            <a:chExt cx="1574640" cy="1574640"/>
          </a:xfrm>
        </p:grpSpPr>
        <p:sp>
          <p:nvSpPr>
            <p:cNvPr id="168" name=""/>
            <p:cNvSpPr/>
            <p:nvPr/>
          </p:nvSpPr>
          <p:spPr>
            <a:xfrm>
              <a:off x="1308240" y="4503600"/>
              <a:ext cx="1574640" cy="1574640"/>
            </a:xfrm>
            <a:custGeom>
              <a:avLst/>
              <a:gdLst/>
              <a:ahLst/>
              <a:rect l="l" t="t" r="r" b="b"/>
              <a:pathLst>
                <a:path w="992" h="992">
                  <a:moveTo>
                    <a:pt x="0" y="291"/>
                  </a:moveTo>
                  <a:lnTo>
                    <a:pt x="0" y="992"/>
                  </a:lnTo>
                  <a:lnTo>
                    <a:pt x="968" y="992"/>
                  </a:lnTo>
                  <a:lnTo>
                    <a:pt x="992" y="895"/>
                  </a:lnTo>
                  <a:lnTo>
                    <a:pt x="968" y="605"/>
                  </a:lnTo>
                  <a:lnTo>
                    <a:pt x="871" y="605"/>
                  </a:lnTo>
                  <a:cubicBezTo>
                    <a:pt x="847" y="597"/>
                    <a:pt x="821" y="594"/>
                    <a:pt x="799" y="581"/>
                  </a:cubicBezTo>
                  <a:cubicBezTo>
                    <a:pt x="793" y="578"/>
                    <a:pt x="796" y="562"/>
                    <a:pt x="796" y="562"/>
                  </a:cubicBezTo>
                  <a:lnTo>
                    <a:pt x="750" y="484"/>
                  </a:lnTo>
                  <a:lnTo>
                    <a:pt x="799" y="363"/>
                  </a:lnTo>
                  <a:lnTo>
                    <a:pt x="871" y="315"/>
                  </a:lnTo>
                  <a:lnTo>
                    <a:pt x="968" y="315"/>
                  </a:lnTo>
                  <a:lnTo>
                    <a:pt x="968" y="0"/>
                  </a:lnTo>
                  <a:lnTo>
                    <a:pt x="169" y="0"/>
                  </a:lnTo>
                  <a:lnTo>
                    <a:pt x="73" y="49"/>
                  </a:lnTo>
                  <a:lnTo>
                    <a:pt x="49" y="97"/>
                  </a:lnTo>
                  <a:lnTo>
                    <a:pt x="49" y="291"/>
                  </a:lnTo>
                  <a:cubicBezTo>
                    <a:pt x="33" y="291"/>
                    <a:pt x="16" y="291"/>
                    <a:pt x="0" y="29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1960560" y="5041440"/>
            <a:ext cx="480960" cy="43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60560" y="5041440"/>
                      <a:ext cx="480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2652840" y="4543200"/>
              <a:ext cx="1537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52840" y="5886000"/>
              <a:ext cx="15372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00120" y="462888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00120" y="561780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1307880" y="5233680"/>
              <a:ext cx="1114560" cy="114120"/>
            </a:xfrm>
            <a:custGeom>
              <a:avLst/>
              <a:gdLst>
                <a:gd name="textAreaLeft" fmla="*/ 133200 w 1114560"/>
                <a:gd name="textAreaRight" fmla="*/ 981360 w 1114560"/>
                <a:gd name="textAreaTop" fmla="*/ 13320 h 114120"/>
                <a:gd name="textAreaBottom" fmla="*/ 1008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195800">
              <a:off x="1730160" y="4925520"/>
              <a:ext cx="23004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953200">
              <a:off x="1730520" y="538776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382000">
              <a:off x="1768320" y="565560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341960" y="4503600"/>
            <a:ext cx="1574640" cy="1766880"/>
            <a:chOff x="4341960" y="4503600"/>
            <a:chExt cx="1574640" cy="1766880"/>
          </a:xfrm>
        </p:grpSpPr>
        <p:sp>
          <p:nvSpPr>
            <p:cNvPr id="180" name=""/>
            <p:cNvSpPr/>
            <p:nvPr/>
          </p:nvSpPr>
          <p:spPr>
            <a:xfrm>
              <a:off x="4341960" y="4503600"/>
              <a:ext cx="1574640" cy="1766880"/>
            </a:xfrm>
            <a:custGeom>
              <a:avLst/>
              <a:gdLst/>
              <a:ahLst/>
              <a:rect l="l" t="t" r="r" b="b"/>
              <a:pathLst>
                <a:path w="1016" h="1137">
                  <a:moveTo>
                    <a:pt x="0" y="48"/>
                  </a:moveTo>
                  <a:lnTo>
                    <a:pt x="0" y="798"/>
                  </a:lnTo>
                  <a:lnTo>
                    <a:pt x="48" y="822"/>
                  </a:lnTo>
                  <a:lnTo>
                    <a:pt x="72" y="895"/>
                  </a:lnTo>
                  <a:lnTo>
                    <a:pt x="72" y="1064"/>
                  </a:lnTo>
                  <a:lnTo>
                    <a:pt x="169" y="1137"/>
                  </a:lnTo>
                  <a:lnTo>
                    <a:pt x="968" y="1137"/>
                  </a:lnTo>
                  <a:lnTo>
                    <a:pt x="1016" y="1040"/>
                  </a:lnTo>
                  <a:lnTo>
                    <a:pt x="1016" y="677"/>
                  </a:lnTo>
                  <a:lnTo>
                    <a:pt x="871" y="677"/>
                  </a:lnTo>
                  <a:lnTo>
                    <a:pt x="798" y="605"/>
                  </a:lnTo>
                  <a:lnTo>
                    <a:pt x="798" y="508"/>
                  </a:lnTo>
                  <a:lnTo>
                    <a:pt x="822" y="435"/>
                  </a:lnTo>
                  <a:lnTo>
                    <a:pt x="943" y="411"/>
                  </a:lnTo>
                  <a:lnTo>
                    <a:pt x="1016" y="387"/>
                  </a:lnTo>
                  <a:lnTo>
                    <a:pt x="99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4359960" y="5252040"/>
              <a:ext cx="1114200" cy="153720"/>
            </a:xfrm>
            <a:custGeom>
              <a:avLst/>
              <a:gdLst>
                <a:gd name="textAreaLeft" fmla="*/ 132840 w 1114200"/>
                <a:gd name="textAreaRight" fmla="*/ 981360 w 1114200"/>
                <a:gd name="textAreaTop" fmla="*/ 18360 h 153720"/>
                <a:gd name="textAreaBottom" fmla="*/ 13536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33840" y="465768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 Blac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5680" y="565632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Black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5720" y="5310360"/>
              <a:ext cx="34596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9"/>
            <a:stretch/>
          </p:blipFill>
          <p:spPr>
            <a:xfrm>
              <a:off x="5072040" y="5118120"/>
              <a:ext cx="34704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686200" y="457992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86200" y="604044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23720" y="241200"/>
            <a:ext cx="3786480" cy="3505320"/>
            <a:chOff x="423720" y="241200"/>
            <a:chExt cx="3786480" cy="3505320"/>
          </a:xfrm>
        </p:grpSpPr>
        <p:sp>
          <p:nvSpPr>
            <p:cNvPr id="189" name=""/>
            <p:cNvSpPr/>
            <p:nvPr/>
          </p:nvSpPr>
          <p:spPr>
            <a:xfrm>
              <a:off x="423720" y="241200"/>
              <a:ext cx="3786480" cy="3505320"/>
            </a:xfrm>
            <a:custGeom>
              <a:avLst/>
              <a:gdLst/>
              <a:ahLst/>
              <a:rect l="l" t="t" r="r" b="b"/>
              <a:pathLst>
                <a:path w="2661" h="2444">
                  <a:moveTo>
                    <a:pt x="24" y="653"/>
                  </a:moveTo>
                  <a:lnTo>
                    <a:pt x="0" y="726"/>
                  </a:lnTo>
                  <a:lnTo>
                    <a:pt x="24" y="2202"/>
                  </a:lnTo>
                  <a:lnTo>
                    <a:pt x="97" y="2347"/>
                  </a:lnTo>
                  <a:lnTo>
                    <a:pt x="218" y="2395"/>
                  </a:lnTo>
                  <a:lnTo>
                    <a:pt x="532" y="2444"/>
                  </a:lnTo>
                  <a:lnTo>
                    <a:pt x="2347" y="2444"/>
                  </a:lnTo>
                  <a:lnTo>
                    <a:pt x="2419" y="2419"/>
                  </a:lnTo>
                  <a:lnTo>
                    <a:pt x="2468" y="2323"/>
                  </a:lnTo>
                  <a:lnTo>
                    <a:pt x="2468" y="2105"/>
                  </a:lnTo>
                  <a:lnTo>
                    <a:pt x="2516" y="2081"/>
                  </a:lnTo>
                  <a:lnTo>
                    <a:pt x="2637" y="2057"/>
                  </a:lnTo>
                  <a:lnTo>
                    <a:pt x="2661" y="1984"/>
                  </a:lnTo>
                  <a:lnTo>
                    <a:pt x="2637" y="581"/>
                  </a:lnTo>
                  <a:lnTo>
                    <a:pt x="2589" y="508"/>
                  </a:lnTo>
                  <a:lnTo>
                    <a:pt x="2202" y="97"/>
                  </a:lnTo>
                  <a:lnTo>
                    <a:pt x="2129" y="49"/>
                  </a:lnTo>
                  <a:lnTo>
                    <a:pt x="2081" y="49"/>
                  </a:lnTo>
                  <a:lnTo>
                    <a:pt x="1621" y="49"/>
                  </a:lnTo>
                  <a:lnTo>
                    <a:pt x="1621" y="0"/>
                  </a:lnTo>
                  <a:lnTo>
                    <a:pt x="1065" y="0"/>
                  </a:lnTo>
                  <a:lnTo>
                    <a:pt x="677" y="0"/>
                  </a:lnTo>
                  <a:lnTo>
                    <a:pt x="557" y="73"/>
                  </a:lnTo>
                  <a:lnTo>
                    <a:pt x="48" y="605"/>
                  </a:lnTo>
                  <a:lnTo>
                    <a:pt x="0" y="702"/>
                  </a:lnTo>
                  <a:lnTo>
                    <a:pt x="0" y="750"/>
                  </a:lnTo>
                  <a:lnTo>
                    <a:pt x="0" y="871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6080" y="458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79880" y="512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65040" y="6890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69600" y="601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2760" y="509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2240" y="7603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0520" y="1739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2760" y="1123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27080" y="2876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8680" y="2392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240" y="216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1120" y="1469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0720" y="971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2400" y="27097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015920" y="758880"/>
              <a:ext cx="2602800" cy="2650680"/>
              <a:chOff x="1015920" y="758880"/>
              <a:chExt cx="2602800" cy="2650680"/>
            </a:xfrm>
          </p:grpSpPr>
          <p:sp>
            <p:nvSpPr>
              <p:cNvPr id="205" name=""/>
              <p:cNvSpPr/>
              <p:nvPr/>
            </p:nvSpPr>
            <p:spPr>
              <a:xfrm>
                <a:off x="1046880" y="790200"/>
                <a:ext cx="2543040" cy="261792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56480" y="2935800"/>
                <a:ext cx="1948320" cy="473760"/>
              </a:xfrm>
              <a:custGeom>
                <a:avLst/>
                <a:gdLst/>
                <a:ahLst/>
                <a:rect l="l" t="t" r="r" b="b"/>
                <a:pathLst>
                  <a:path w="1196" h="288">
                    <a:moveTo>
                      <a:pt x="0" y="4"/>
                    </a:moveTo>
                    <a:lnTo>
                      <a:pt x="136" y="136"/>
                    </a:lnTo>
                    <a:lnTo>
                      <a:pt x="288" y="228"/>
                    </a:lnTo>
                    <a:lnTo>
                      <a:pt x="456" y="276"/>
                    </a:lnTo>
                    <a:lnTo>
                      <a:pt x="596" y="288"/>
                    </a:lnTo>
                    <a:lnTo>
                      <a:pt x="736" y="276"/>
                    </a:lnTo>
                    <a:lnTo>
                      <a:pt x="816" y="252"/>
                    </a:lnTo>
                    <a:lnTo>
                      <a:pt x="984" y="192"/>
                    </a:lnTo>
                    <a:lnTo>
                      <a:pt x="1100" y="100"/>
                    </a:lnTo>
                    <a:lnTo>
                      <a:pt x="1196" y="0"/>
                    </a:lnTo>
                  </a:path>
                </a:pathLst>
              </a:custGeom>
              <a:solidFill>
                <a:srgbClr val="ffffff">
                  <a:alpha val="49000"/>
                </a:srgbClr>
              </a:solidFill>
              <a:ln w="9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07840" y="821520"/>
                <a:ext cx="765360" cy="542880"/>
              </a:xfrm>
              <a:custGeom>
                <a:avLst/>
                <a:gdLst/>
                <a:ahLst/>
                <a:rect l="l" t="t" r="r" b="b"/>
                <a:pathLst>
                  <a:path w="470" h="330">
                    <a:moveTo>
                      <a:pt x="0" y="0"/>
                    </a:moveTo>
                    <a:lnTo>
                      <a:pt x="70" y="21"/>
                    </a:lnTo>
                    <a:lnTo>
                      <a:pt x="115" y="39"/>
                    </a:lnTo>
                    <a:lnTo>
                      <a:pt x="184" y="71"/>
                    </a:lnTo>
                    <a:lnTo>
                      <a:pt x="266" y="120"/>
                    </a:lnTo>
                    <a:cubicBezTo>
                      <a:pt x="295" y="141"/>
                      <a:pt x="333" y="174"/>
                      <a:pt x="358" y="198"/>
                    </a:cubicBezTo>
                    <a:cubicBezTo>
                      <a:pt x="383" y="222"/>
                      <a:pt x="399" y="239"/>
                      <a:pt x="418" y="261"/>
                    </a:cubicBezTo>
                    <a:cubicBezTo>
                      <a:pt x="437" y="283"/>
                      <a:pt x="459" y="316"/>
                      <a:pt x="470" y="330"/>
                    </a:cubicBezTo>
                  </a:path>
                </a:pathLst>
              </a:custGeom>
              <a:noFill/>
              <a:ln w="540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304800" y="1384200"/>
                <a:ext cx="285120" cy="1550160"/>
              </a:xfrm>
              <a:custGeom>
                <a:avLst/>
                <a:gdLst/>
                <a:ahLst/>
                <a:rect l="l" t="t" r="r" b="b"/>
                <a:pathLst>
                  <a:path w="175" h="942">
                    <a:moveTo>
                      <a:pt x="50" y="0"/>
                    </a:moveTo>
                    <a:cubicBezTo>
                      <a:pt x="64" y="28"/>
                      <a:pt x="114" y="122"/>
                      <a:pt x="132" y="170"/>
                    </a:cubicBezTo>
                    <a:cubicBezTo>
                      <a:pt x="150" y="218"/>
                      <a:pt x="153" y="249"/>
                      <a:pt x="160" y="290"/>
                    </a:cubicBezTo>
                    <a:cubicBezTo>
                      <a:pt x="167" y="331"/>
                      <a:pt x="173" y="373"/>
                      <a:pt x="174" y="418"/>
                    </a:cubicBezTo>
                    <a:cubicBezTo>
                      <a:pt x="175" y="463"/>
                      <a:pt x="170" y="519"/>
                      <a:pt x="164" y="562"/>
                    </a:cubicBezTo>
                    <a:cubicBezTo>
                      <a:pt x="158" y="605"/>
                      <a:pt x="154" y="633"/>
                      <a:pt x="140" y="674"/>
                    </a:cubicBezTo>
                    <a:cubicBezTo>
                      <a:pt x="126" y="715"/>
                      <a:pt x="105" y="765"/>
                      <a:pt x="82" y="810"/>
                    </a:cubicBezTo>
                    <a:cubicBezTo>
                      <a:pt x="59" y="855"/>
                      <a:pt x="17" y="915"/>
                      <a:pt x="0" y="942"/>
                    </a:cubicBezTo>
                  </a:path>
                </a:pathLst>
              </a:custGeom>
              <a:noFill/>
              <a:ln w="540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1015920" y="758880"/>
                <a:ext cx="2602800" cy="1940760"/>
                <a:chOff x="1015920" y="758880"/>
                <a:chExt cx="2602800" cy="19407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015920" y="202248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20161800">
                  <a:off x="1133280" y="2653920"/>
                  <a:ext cx="9396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818000">
                  <a:off x="1186560" y="140652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3267600">
                  <a:off x="1639800" y="958680"/>
                  <a:ext cx="95400" cy="27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7157400">
                  <a:off x="2851560" y="941760"/>
                  <a:ext cx="95400" cy="27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5400000">
                  <a:off x="2242440" y="792720"/>
                  <a:ext cx="95400" cy="27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8549400">
                  <a:off x="3318480" y="136980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0800000">
                  <a:off x="3524400" y="197568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2584400">
                  <a:off x="3418200" y="2597760"/>
                  <a:ext cx="94320" cy="2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2595240" y="788040"/>
                  <a:ext cx="22680" cy="9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3133440" y="1099440"/>
                  <a:ext cx="63360" cy="78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522960" y="2305440"/>
                  <a:ext cx="77760" cy="1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3493080" y="1665360"/>
                  <a:ext cx="55080" cy="1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1038240" y="2358000"/>
                  <a:ext cx="69480" cy="9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flipV="1">
                  <a:off x="1046880" y="1701360"/>
                  <a:ext cx="89280" cy="22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>
                  <a:off x="1391760" y="1130400"/>
                  <a:ext cx="79560" cy="68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>
                  <a:off x="1960200" y="795960"/>
                  <a:ext cx="25560" cy="82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620640" y="320760"/>
              <a:ext cx="3190680" cy="3304800"/>
              <a:chOff x="620640" y="320760"/>
              <a:chExt cx="3190680" cy="3304800"/>
            </a:xfrm>
          </p:grpSpPr>
          <p:sp>
            <p:nvSpPr>
              <p:cNvPr id="228" name=""/>
              <p:cNvSpPr/>
              <p:nvPr/>
            </p:nvSpPr>
            <p:spPr>
              <a:xfrm>
                <a:off x="1251360" y="320760"/>
                <a:ext cx="156240" cy="15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81120" y="360000"/>
                <a:ext cx="156240" cy="159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55080" y="3466080"/>
                <a:ext cx="156240" cy="15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0640" y="3386880"/>
                <a:ext cx="156240" cy="15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96360" y="3266640"/>
                <a:ext cx="237960" cy="23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79360" y="1874520"/>
                <a:ext cx="472680" cy="43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23680" y="2032200"/>
                <a:ext cx="117360" cy="11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27440" y="2032200"/>
                <a:ext cx="117000" cy="11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62920" y="2550600"/>
                <a:ext cx="197280" cy="199080"/>
              </a:xfrm>
              <a:custGeom>
                <a:avLst/>
                <a:gdLst>
                  <a:gd name="textAreaLeft" fmla="*/ 9360 w 197280"/>
                  <a:gd name="textAreaRight" fmla="*/ 187920 w 197280"/>
                  <a:gd name="textAreaTop" fmla="*/ 9360 h 199080"/>
                  <a:gd name="textAreaBottom" fmla="*/ 189720 h 199080"/>
                </a:gdLst>
                <a:ahLst/>
                <a:rect l="textAreaLeft" t="textAreaTop" r="textAreaRight" b="textAreaBottom"/>
                <a:pathLst>
                  <a:path w="21600" h="21797">
                    <a:moveTo>
                      <a:pt x="3600" y="0"/>
                    </a:moveTo>
                    <a:arcTo wR="3600" hR="3600" stAng="16200000" swAng="-5400000"/>
                    <a:lnTo>
                      <a:pt x="0" y="18197"/>
                    </a:lnTo>
                    <a:arcTo wR="3600" hR="3600" stAng="10800000" swAng="-5400000"/>
                    <a:lnTo>
                      <a:pt x="18000" y="217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79360" y="2550600"/>
                <a:ext cx="196920" cy="199080"/>
              </a:xfrm>
              <a:custGeom>
                <a:avLst/>
                <a:gdLst>
                  <a:gd name="textAreaLeft" fmla="*/ 9360 w 196920"/>
                  <a:gd name="textAreaRight" fmla="*/ 187560 w 196920"/>
                  <a:gd name="textAreaTop" fmla="*/ 9360 h 199080"/>
                  <a:gd name="textAreaBottom" fmla="*/ 189720 h 199080"/>
                </a:gdLst>
                <a:ahLst/>
                <a:rect l="textAreaLeft" t="textAreaTop" r="textAreaRight" b="textAreaBottom"/>
                <a:pathLst>
                  <a:path w="21600" h="21836">
                    <a:moveTo>
                      <a:pt x="3600" y="0"/>
                    </a:moveTo>
                    <a:arcTo wR="3600" hR="3600" stAng="16200000" swAng="-5400000"/>
                    <a:lnTo>
                      <a:pt x="0" y="18236"/>
                    </a:lnTo>
                    <a:arcTo wR="3600" hR="3600" stAng="10800000" swAng="-5400000"/>
                    <a:lnTo>
                      <a:pt x="18000" y="218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54400" y="2550600"/>
                <a:ext cx="197280" cy="199080"/>
              </a:xfrm>
              <a:custGeom>
                <a:avLst/>
                <a:gdLst>
                  <a:gd name="textAreaLeft" fmla="*/ 9360 w 197280"/>
                  <a:gd name="textAreaRight" fmla="*/ 187920 w 197280"/>
                  <a:gd name="textAreaTop" fmla="*/ 9360 h 199080"/>
                  <a:gd name="textAreaBottom" fmla="*/ 189720 h 199080"/>
                </a:gdLst>
                <a:ahLst/>
                <a:rect l="textAreaLeft" t="textAreaTop" r="textAreaRight" b="textAreaBottom"/>
                <a:pathLst>
                  <a:path w="21600" h="21797">
                    <a:moveTo>
                      <a:pt x="3600" y="0"/>
                    </a:moveTo>
                    <a:arcTo wR="3600" hR="3600" stAng="16200000" swAng="-5400000"/>
                    <a:lnTo>
                      <a:pt x="0" y="18197"/>
                    </a:lnTo>
                    <a:arcTo wR="3600" hR="3600" stAng="10800000" swAng="-5400000"/>
                    <a:lnTo>
                      <a:pt x="18000" y="217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70480" y="2550600"/>
                <a:ext cx="197280" cy="199080"/>
              </a:xfrm>
              <a:custGeom>
                <a:avLst/>
                <a:gdLst>
                  <a:gd name="textAreaLeft" fmla="*/ 9360 w 197280"/>
                  <a:gd name="textAreaRight" fmla="*/ 187920 w 197280"/>
                  <a:gd name="textAreaTop" fmla="*/ 9360 h 199080"/>
                  <a:gd name="textAreaBottom" fmla="*/ 189720 h 199080"/>
                </a:gdLst>
                <a:ahLst/>
                <a:rect l="textAreaLeft" t="textAreaTop" r="textAreaRight" b="textAreaBottom"/>
                <a:pathLst>
                  <a:path w="21600" h="21797">
                    <a:moveTo>
                      <a:pt x="3600" y="0"/>
                    </a:moveTo>
                    <a:arcTo wR="3600" hR="3600" stAng="16200000" swAng="-5400000"/>
                    <a:lnTo>
                      <a:pt x="0" y="18197"/>
                    </a:lnTo>
                    <a:arcTo wR="3600" hR="3600" stAng="10800000" swAng="-5400000"/>
                    <a:lnTo>
                      <a:pt x="18000" y="217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62920" y="1436760"/>
                <a:ext cx="1064160" cy="1987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671920" y="2949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23800" y="9320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06:41:27Z</dcterms:created>
  <dc:creator>William D. Flint</dc:creator>
  <dc:description/>
  <dc:language>en-US</dc:language>
  <cp:lastModifiedBy>Betsy Flint</cp:lastModifiedBy>
  <dcterms:modified xsi:type="dcterms:W3CDTF">2004-07-30T00:11:55Z</dcterms:modified>
  <cp:revision>4</cp:revision>
  <dc:subject/>
  <dc:title>Slide 1</dc:title>
</cp:coreProperties>
</file>