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3C22-F5C1-4314-BEA2-EA831157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A29E-FF66-4668-9507-8A94DDDF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0717-FF85-45BA-8C8A-F2112E644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7663-9961-4F2B-ADF3-26182FC9D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4343-7293-42F1-8F20-019EA98A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DB83-55F3-4493-ABCF-F5CD4263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D7E0-380D-465E-B77B-D2B0FAB0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F058-6CFD-42DA-9A0B-5D243100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2CC5-55FC-43B7-840D-BB590647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9641-BC85-4E44-A7D9-BF51DC3C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8951-427B-4E41-B952-D6D5B5BC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9ED2-6B64-421D-A265-E9878C16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BC02-207A-4164-A2CF-3353CDE78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468320" y="67320"/>
            <a:ext cx="4390560" cy="4383720"/>
            <a:chOff x="4468320" y="67320"/>
            <a:chExt cx="4390560" cy="4383720"/>
          </a:xfrm>
        </p:grpSpPr>
        <p:grpSp>
          <p:nvGrpSpPr>
            <p:cNvPr id="42" name=""/>
            <p:cNvGrpSpPr/>
            <p:nvPr/>
          </p:nvGrpSpPr>
          <p:grpSpPr>
            <a:xfrm>
              <a:off x="4468320" y="67320"/>
              <a:ext cx="4390560" cy="4383720"/>
              <a:chOff x="4468320" y="67320"/>
              <a:chExt cx="4390560" cy="4383720"/>
            </a:xfrm>
          </p:grpSpPr>
          <p:sp>
            <p:nvSpPr>
              <p:cNvPr id="43" name=""/>
              <p:cNvSpPr/>
              <p:nvPr/>
            </p:nvSpPr>
            <p:spPr>
              <a:xfrm>
                <a:off x="4819680" y="357120"/>
                <a:ext cx="3724200" cy="3495600"/>
              </a:xfrm>
              <a:custGeom>
                <a:avLst/>
                <a:gdLst/>
                <a:ahLst/>
                <a:rect l="l" t="t" r="r" b="b"/>
                <a:pathLst>
                  <a:path w="2346" h="2202">
                    <a:moveTo>
                      <a:pt x="0" y="436"/>
                    </a:moveTo>
                    <a:lnTo>
                      <a:pt x="24" y="1984"/>
                    </a:lnTo>
                    <a:lnTo>
                      <a:pt x="72" y="2105"/>
                    </a:lnTo>
                    <a:lnTo>
                      <a:pt x="145" y="2153"/>
                    </a:lnTo>
                    <a:lnTo>
                      <a:pt x="242" y="2177"/>
                    </a:lnTo>
                    <a:lnTo>
                      <a:pt x="967" y="2202"/>
                    </a:lnTo>
                    <a:lnTo>
                      <a:pt x="1379" y="2202"/>
                    </a:lnTo>
                    <a:lnTo>
                      <a:pt x="2177" y="2105"/>
                    </a:lnTo>
                    <a:lnTo>
                      <a:pt x="2298" y="2032"/>
                    </a:lnTo>
                    <a:lnTo>
                      <a:pt x="2346" y="1887"/>
                    </a:lnTo>
                    <a:lnTo>
                      <a:pt x="2322" y="823"/>
                    </a:lnTo>
                    <a:lnTo>
                      <a:pt x="2322" y="605"/>
                    </a:lnTo>
                    <a:lnTo>
                      <a:pt x="2274" y="532"/>
                    </a:lnTo>
                    <a:lnTo>
                      <a:pt x="1984" y="242"/>
                    </a:lnTo>
                    <a:lnTo>
                      <a:pt x="1790" y="49"/>
                    </a:lnTo>
                    <a:lnTo>
                      <a:pt x="1742" y="0"/>
                    </a:lnTo>
                    <a:lnTo>
                      <a:pt x="701" y="24"/>
                    </a:lnTo>
                    <a:lnTo>
                      <a:pt x="629" y="49"/>
                    </a:lnTo>
                    <a:lnTo>
                      <a:pt x="629" y="121"/>
                    </a:lnTo>
                    <a:lnTo>
                      <a:pt x="266" y="145"/>
                    </a:lnTo>
                    <a:lnTo>
                      <a:pt x="169" y="169"/>
                    </a:lnTo>
                    <a:lnTo>
                      <a:pt x="97" y="218"/>
                    </a:lnTo>
                    <a:lnTo>
                      <a:pt x="48" y="266"/>
                    </a:lnTo>
                    <a:lnTo>
                      <a:pt x="0" y="363"/>
                    </a:lnTo>
                    <a:lnTo>
                      <a:pt x="0" y="436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237520" y="3390840"/>
                <a:ext cx="154080" cy="154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507440" y="473040"/>
                <a:ext cx="153720" cy="154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126040" y="741240"/>
                <a:ext cx="154080" cy="154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049720" y="3506760"/>
                <a:ext cx="154080" cy="154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432480" y="2048040"/>
                <a:ext cx="460440" cy="46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048360" y="2239920"/>
                <a:ext cx="114480" cy="114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123320" y="2200320"/>
                <a:ext cx="114120" cy="114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4468320" y="67320"/>
                <a:ext cx="4390560" cy="4383720"/>
                <a:chOff x="4468320" y="67320"/>
                <a:chExt cx="4390560" cy="4383720"/>
              </a:xfrm>
            </p:grpSpPr>
            <p:sp>
              <p:nvSpPr>
                <p:cNvPr id="52" name=""/>
                <p:cNvSpPr/>
                <p:nvPr/>
              </p:nvSpPr>
              <p:spPr>
                <a:xfrm flipV="1" rot="9033000">
                  <a:off x="5049000" y="653040"/>
                  <a:ext cx="3228840" cy="3211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70" y="13602"/>
                      </a:moveTo>
                      <a:arcTo wR="10800" hR="10800" stAng="9897842" swAng="1135248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70" y="13602"/>
                      </a:moveTo>
                      <a:arcTo wR="10800" hR="10800" stAng="9897842" swAng="11352487"/>
                    </a:path>
                  </a:pathLst>
                </a:custGeom>
                <a:noFill/>
                <a:ln w="7632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rot="4740600">
                  <a:off x="5900760" y="1089720"/>
                  <a:ext cx="2667240" cy="2072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71" y="1"/>
                      </a:moveTo>
                      <a:arcTo wR="10800" hR="10800" stAng="-5441171" swAng="34323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71" y="1"/>
                      </a:moveTo>
                      <a:arcTo wR="10800" hR="10800" stAng="-5441171" swAng="3432390"/>
                    </a:path>
                  </a:pathLst>
                </a:custGeom>
                <a:noFill/>
                <a:ln w="76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 rot="985200">
                  <a:off x="4944600" y="1925640"/>
                  <a:ext cx="268560" cy="3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 rot="20170800">
                  <a:off x="5027400" y="2771640"/>
                  <a:ext cx="268200" cy="3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rot="2377200">
                  <a:off x="5333760" y="1158840"/>
                  <a:ext cx="268200" cy="3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rot="4054800">
                  <a:off x="6064920" y="697680"/>
                  <a:ext cx="268560" cy="3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rot="6338400">
                  <a:off x="6909480" y="697320"/>
                  <a:ext cx="268560" cy="3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19419000">
                  <a:off x="7677000" y="1120320"/>
                  <a:ext cx="268200" cy="38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20551200">
                  <a:off x="8061480" y="1888920"/>
                  <a:ext cx="268200" cy="37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985200">
                  <a:off x="8061120" y="2733840"/>
                  <a:ext cx="268200" cy="37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21445800">
                  <a:off x="4911840" y="2349360"/>
                  <a:ext cx="268200" cy="76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894800">
                  <a:off x="5065920" y="1504800"/>
                  <a:ext cx="268200" cy="76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3505200">
                  <a:off x="5680800" y="870480"/>
                  <a:ext cx="268200" cy="76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5400000">
                  <a:off x="6506280" y="640440"/>
                  <a:ext cx="268200" cy="76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rot="10800000">
                  <a:off x="8138880" y="2273040"/>
                  <a:ext cx="268200" cy="75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rot="9242400">
                  <a:off x="7925760" y="1447560"/>
                  <a:ext cx="268200" cy="75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rot="6741600">
                  <a:off x="7312680" y="832320"/>
                  <a:ext cx="268200" cy="76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" name=""/>
              <p:cNvSpPr/>
              <p:nvPr/>
            </p:nvSpPr>
            <p:spPr>
              <a:xfrm>
                <a:off x="5295960" y="2771640"/>
                <a:ext cx="422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027760" y="2100240"/>
                <a:ext cx="422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219640" y="1407960"/>
                <a:ext cx="422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18240" y="852480"/>
                <a:ext cx="422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410520" y="620640"/>
                <a:ext cx="422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178760" y="812880"/>
                <a:ext cx="422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77360" y="2714760"/>
                <a:ext cx="422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16960" y="1351080"/>
                <a:ext cx="422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907400" y="2022480"/>
                <a:ext cx="422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5878440" y="300672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X 1000 RP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1308240" y="4503600"/>
            <a:ext cx="1574640" cy="1574640"/>
            <a:chOff x="1308240" y="4503600"/>
            <a:chExt cx="1574640" cy="1574640"/>
          </a:xfrm>
        </p:grpSpPr>
        <p:sp>
          <p:nvSpPr>
            <p:cNvPr id="80" name=""/>
            <p:cNvSpPr/>
            <p:nvPr/>
          </p:nvSpPr>
          <p:spPr>
            <a:xfrm>
              <a:off x="1308240" y="4503600"/>
              <a:ext cx="1574640" cy="1574640"/>
            </a:xfrm>
            <a:custGeom>
              <a:avLst/>
              <a:gdLst/>
              <a:ahLst/>
              <a:rect l="l" t="t" r="r" b="b"/>
              <a:pathLst>
                <a:path w="992" h="992">
                  <a:moveTo>
                    <a:pt x="0" y="291"/>
                  </a:moveTo>
                  <a:lnTo>
                    <a:pt x="0" y="992"/>
                  </a:lnTo>
                  <a:lnTo>
                    <a:pt x="968" y="992"/>
                  </a:lnTo>
                  <a:lnTo>
                    <a:pt x="992" y="895"/>
                  </a:lnTo>
                  <a:lnTo>
                    <a:pt x="968" y="605"/>
                  </a:lnTo>
                  <a:lnTo>
                    <a:pt x="871" y="605"/>
                  </a:lnTo>
                  <a:cubicBezTo>
                    <a:pt x="847" y="597"/>
                    <a:pt x="821" y="594"/>
                    <a:pt x="799" y="581"/>
                  </a:cubicBezTo>
                  <a:cubicBezTo>
                    <a:pt x="793" y="578"/>
                    <a:pt x="796" y="562"/>
                    <a:pt x="796" y="562"/>
                  </a:cubicBezTo>
                  <a:lnTo>
                    <a:pt x="750" y="484"/>
                  </a:lnTo>
                  <a:lnTo>
                    <a:pt x="799" y="363"/>
                  </a:lnTo>
                  <a:lnTo>
                    <a:pt x="871" y="315"/>
                  </a:lnTo>
                  <a:lnTo>
                    <a:pt x="968" y="315"/>
                  </a:lnTo>
                  <a:lnTo>
                    <a:pt x="968" y="0"/>
                  </a:lnTo>
                  <a:lnTo>
                    <a:pt x="169" y="0"/>
                  </a:lnTo>
                  <a:lnTo>
                    <a:pt x="73" y="49"/>
                  </a:lnTo>
                  <a:lnTo>
                    <a:pt x="49" y="97"/>
                  </a:lnTo>
                  <a:lnTo>
                    <a:pt x="49" y="291"/>
                  </a:lnTo>
                  <a:cubicBezTo>
                    <a:pt x="33" y="291"/>
                    <a:pt x="16" y="291"/>
                    <a:pt x="0" y="291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1" name=""/>
            <p:cNvGraphicFramePr/>
            <p:nvPr/>
          </p:nvGraphicFramePr>
          <p:xfrm>
            <a:off x="1960560" y="5041440"/>
            <a:ext cx="480960" cy="430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60560" y="5041440"/>
                      <a:ext cx="480960" cy="43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" name=""/>
            <p:cNvSpPr/>
            <p:nvPr/>
          </p:nvSpPr>
          <p:spPr>
            <a:xfrm>
              <a:off x="2652840" y="4543200"/>
              <a:ext cx="1537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652840" y="5886000"/>
              <a:ext cx="15372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500120" y="4628880"/>
              <a:ext cx="34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 Black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00120" y="5617800"/>
              <a:ext cx="34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 Black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307880" y="5233680"/>
              <a:ext cx="1114560" cy="114120"/>
            </a:xfrm>
            <a:custGeom>
              <a:avLst/>
              <a:gdLst>
                <a:gd name="textAreaLeft" fmla="*/ 133200 w 1114560"/>
                <a:gd name="textAreaRight" fmla="*/ 981360 w 1114560"/>
                <a:gd name="textAreaTop" fmla="*/ 13320 h 114120"/>
                <a:gd name="textAreaBottom" fmla="*/ 1008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04" y="21600"/>
                  </a:lnTo>
                  <a:lnTo>
                    <a:pt x="1496" y="2160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195800">
              <a:off x="1730160" y="4925520"/>
              <a:ext cx="230040" cy="3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20953200">
              <a:off x="1730520" y="5387760"/>
              <a:ext cx="230040" cy="3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20382000">
              <a:off x="1768320" y="5655600"/>
              <a:ext cx="230040" cy="3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4341960" y="4503600"/>
            <a:ext cx="1574640" cy="1766880"/>
            <a:chOff x="4341960" y="4503600"/>
            <a:chExt cx="1574640" cy="1766880"/>
          </a:xfrm>
        </p:grpSpPr>
        <p:sp>
          <p:nvSpPr>
            <p:cNvPr id="92" name=""/>
            <p:cNvSpPr/>
            <p:nvPr/>
          </p:nvSpPr>
          <p:spPr>
            <a:xfrm>
              <a:off x="4341960" y="4503600"/>
              <a:ext cx="1574640" cy="1766880"/>
            </a:xfrm>
            <a:custGeom>
              <a:avLst/>
              <a:gdLst/>
              <a:ahLst/>
              <a:rect l="l" t="t" r="r" b="b"/>
              <a:pathLst>
                <a:path w="1016" h="1137">
                  <a:moveTo>
                    <a:pt x="0" y="48"/>
                  </a:moveTo>
                  <a:lnTo>
                    <a:pt x="0" y="798"/>
                  </a:lnTo>
                  <a:lnTo>
                    <a:pt x="48" y="822"/>
                  </a:lnTo>
                  <a:lnTo>
                    <a:pt x="72" y="895"/>
                  </a:lnTo>
                  <a:lnTo>
                    <a:pt x="72" y="1064"/>
                  </a:lnTo>
                  <a:lnTo>
                    <a:pt x="169" y="1137"/>
                  </a:lnTo>
                  <a:lnTo>
                    <a:pt x="968" y="1137"/>
                  </a:lnTo>
                  <a:lnTo>
                    <a:pt x="1016" y="1040"/>
                  </a:lnTo>
                  <a:lnTo>
                    <a:pt x="1016" y="677"/>
                  </a:lnTo>
                  <a:lnTo>
                    <a:pt x="871" y="677"/>
                  </a:lnTo>
                  <a:lnTo>
                    <a:pt x="798" y="605"/>
                  </a:lnTo>
                  <a:lnTo>
                    <a:pt x="798" y="508"/>
                  </a:lnTo>
                  <a:lnTo>
                    <a:pt x="822" y="435"/>
                  </a:lnTo>
                  <a:lnTo>
                    <a:pt x="943" y="411"/>
                  </a:lnTo>
                  <a:lnTo>
                    <a:pt x="1016" y="387"/>
                  </a:lnTo>
                  <a:lnTo>
                    <a:pt x="992" y="0"/>
                  </a:lnTo>
                  <a:lnTo>
                    <a:pt x="72" y="0"/>
                  </a:lnTo>
                  <a:lnTo>
                    <a:pt x="0" y="48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6200000">
              <a:off x="4359960" y="5252040"/>
              <a:ext cx="1114200" cy="153720"/>
            </a:xfrm>
            <a:custGeom>
              <a:avLst/>
              <a:gdLst>
                <a:gd name="textAreaLeft" fmla="*/ 132840 w 1114200"/>
                <a:gd name="textAreaRight" fmla="*/ 981360 w 1114200"/>
                <a:gd name="textAreaTop" fmla="*/ 18360 h 153720"/>
                <a:gd name="textAreaBottom" fmla="*/ 135360 h 15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04" y="21600"/>
                  </a:lnTo>
                  <a:lnTo>
                    <a:pt x="1496" y="2160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33840" y="4657680"/>
              <a:ext cx="46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 Black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95680" y="5656320"/>
              <a:ext cx="46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 Black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25720" y="5310360"/>
              <a:ext cx="345960" cy="3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3"/>
            <a:stretch/>
          </p:blipFill>
          <p:spPr>
            <a:xfrm>
              <a:off x="5072040" y="5118120"/>
              <a:ext cx="34704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686200" y="4579920"/>
              <a:ext cx="152280" cy="15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686200" y="6040440"/>
              <a:ext cx="152280" cy="154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61880" y="279360"/>
            <a:ext cx="3726000" cy="3417840"/>
          </a:xfrm>
          <a:custGeom>
            <a:avLst/>
            <a:gdLst/>
            <a:ahLst/>
            <a:rect l="l" t="t" r="r" b="b"/>
            <a:pathLst>
              <a:path w="2661" h="2444">
                <a:moveTo>
                  <a:pt x="24" y="653"/>
                </a:moveTo>
                <a:lnTo>
                  <a:pt x="0" y="726"/>
                </a:lnTo>
                <a:lnTo>
                  <a:pt x="24" y="2202"/>
                </a:lnTo>
                <a:lnTo>
                  <a:pt x="97" y="2347"/>
                </a:lnTo>
                <a:lnTo>
                  <a:pt x="218" y="2395"/>
                </a:lnTo>
                <a:lnTo>
                  <a:pt x="532" y="2444"/>
                </a:lnTo>
                <a:lnTo>
                  <a:pt x="2347" y="2444"/>
                </a:lnTo>
                <a:lnTo>
                  <a:pt x="2419" y="2419"/>
                </a:lnTo>
                <a:lnTo>
                  <a:pt x="2468" y="2323"/>
                </a:lnTo>
                <a:lnTo>
                  <a:pt x="2468" y="2105"/>
                </a:lnTo>
                <a:lnTo>
                  <a:pt x="2516" y="2081"/>
                </a:lnTo>
                <a:lnTo>
                  <a:pt x="2637" y="2057"/>
                </a:lnTo>
                <a:lnTo>
                  <a:pt x="2661" y="1984"/>
                </a:lnTo>
                <a:lnTo>
                  <a:pt x="2637" y="581"/>
                </a:lnTo>
                <a:lnTo>
                  <a:pt x="2589" y="508"/>
                </a:lnTo>
                <a:lnTo>
                  <a:pt x="2202" y="97"/>
                </a:lnTo>
                <a:lnTo>
                  <a:pt x="2129" y="49"/>
                </a:lnTo>
                <a:lnTo>
                  <a:pt x="2081" y="49"/>
                </a:lnTo>
                <a:lnTo>
                  <a:pt x="1621" y="49"/>
                </a:lnTo>
                <a:lnTo>
                  <a:pt x="1621" y="0"/>
                </a:lnTo>
                <a:lnTo>
                  <a:pt x="1065" y="0"/>
                </a:lnTo>
                <a:lnTo>
                  <a:pt x="677" y="0"/>
                </a:lnTo>
                <a:lnTo>
                  <a:pt x="557" y="73"/>
                </a:lnTo>
                <a:lnTo>
                  <a:pt x="48" y="605"/>
                </a:lnTo>
                <a:lnTo>
                  <a:pt x="0" y="702"/>
                </a:lnTo>
                <a:lnTo>
                  <a:pt x="0" y="750"/>
                </a:lnTo>
                <a:lnTo>
                  <a:pt x="0" y="871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96720" y="5238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42600" y="6764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02960" y="7016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7640" y="16765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44000" y="10620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75800" y="23288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69880" y="10987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044720" y="784080"/>
            <a:ext cx="2561400" cy="2585880"/>
            <a:chOff x="1044720" y="784080"/>
            <a:chExt cx="2561400" cy="2585880"/>
          </a:xfrm>
        </p:grpSpPr>
        <p:sp>
          <p:nvSpPr>
            <p:cNvPr id="109" name=""/>
            <p:cNvSpPr/>
            <p:nvPr/>
          </p:nvSpPr>
          <p:spPr>
            <a:xfrm>
              <a:off x="1074960" y="814320"/>
              <a:ext cx="2502720" cy="25538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79880" y="2907720"/>
              <a:ext cx="1917360" cy="462240"/>
            </a:xfrm>
            <a:custGeom>
              <a:avLst/>
              <a:gdLst/>
              <a:ahLst/>
              <a:rect l="l" t="t" r="r" b="b"/>
              <a:pathLst>
                <a:path w="1196" h="288">
                  <a:moveTo>
                    <a:pt x="0" y="4"/>
                  </a:moveTo>
                  <a:lnTo>
                    <a:pt x="136" y="136"/>
                  </a:lnTo>
                  <a:lnTo>
                    <a:pt x="288" y="228"/>
                  </a:lnTo>
                  <a:lnTo>
                    <a:pt x="456" y="276"/>
                  </a:lnTo>
                  <a:lnTo>
                    <a:pt x="596" y="288"/>
                  </a:lnTo>
                  <a:lnTo>
                    <a:pt x="736" y="276"/>
                  </a:lnTo>
                  <a:lnTo>
                    <a:pt x="816" y="252"/>
                  </a:lnTo>
                  <a:lnTo>
                    <a:pt x="984" y="192"/>
                  </a:lnTo>
                  <a:lnTo>
                    <a:pt x="1100" y="100"/>
                  </a:lnTo>
                  <a:lnTo>
                    <a:pt x="1196" y="0"/>
                  </a:lnTo>
                </a:path>
              </a:pathLst>
            </a:custGeom>
            <a:solidFill>
              <a:srgbClr val="ffffff">
                <a:alpha val="49000"/>
              </a:srgbClr>
            </a:solidFill>
            <a:ln w="95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611080" y="844920"/>
              <a:ext cx="753120" cy="529560"/>
            </a:xfrm>
            <a:custGeom>
              <a:avLst/>
              <a:gdLst/>
              <a:ahLst/>
              <a:rect l="l" t="t" r="r" b="b"/>
              <a:pathLst>
                <a:path w="470" h="330">
                  <a:moveTo>
                    <a:pt x="0" y="0"/>
                  </a:moveTo>
                  <a:lnTo>
                    <a:pt x="70" y="21"/>
                  </a:lnTo>
                  <a:lnTo>
                    <a:pt x="115" y="39"/>
                  </a:lnTo>
                  <a:lnTo>
                    <a:pt x="184" y="71"/>
                  </a:lnTo>
                  <a:lnTo>
                    <a:pt x="266" y="120"/>
                  </a:lnTo>
                  <a:cubicBezTo>
                    <a:pt x="295" y="141"/>
                    <a:pt x="333" y="174"/>
                    <a:pt x="358" y="198"/>
                  </a:cubicBezTo>
                  <a:cubicBezTo>
                    <a:pt x="383" y="222"/>
                    <a:pt x="399" y="239"/>
                    <a:pt x="418" y="261"/>
                  </a:cubicBezTo>
                  <a:cubicBezTo>
                    <a:pt x="437" y="283"/>
                    <a:pt x="459" y="316"/>
                    <a:pt x="470" y="330"/>
                  </a:cubicBezTo>
                </a:path>
              </a:pathLst>
            </a:custGeom>
            <a:noFill/>
            <a:ln w="540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97240" y="1393920"/>
              <a:ext cx="280440" cy="1512000"/>
            </a:xfrm>
            <a:custGeom>
              <a:avLst/>
              <a:gdLst/>
              <a:ahLst/>
              <a:rect l="l" t="t" r="r" b="b"/>
              <a:pathLst>
                <a:path w="175" h="942">
                  <a:moveTo>
                    <a:pt x="50" y="0"/>
                  </a:moveTo>
                  <a:cubicBezTo>
                    <a:pt x="64" y="28"/>
                    <a:pt x="114" y="122"/>
                    <a:pt x="132" y="170"/>
                  </a:cubicBezTo>
                  <a:cubicBezTo>
                    <a:pt x="150" y="218"/>
                    <a:pt x="153" y="249"/>
                    <a:pt x="160" y="290"/>
                  </a:cubicBezTo>
                  <a:cubicBezTo>
                    <a:pt x="167" y="331"/>
                    <a:pt x="173" y="373"/>
                    <a:pt x="174" y="418"/>
                  </a:cubicBezTo>
                  <a:cubicBezTo>
                    <a:pt x="175" y="463"/>
                    <a:pt x="170" y="519"/>
                    <a:pt x="164" y="562"/>
                  </a:cubicBezTo>
                  <a:cubicBezTo>
                    <a:pt x="158" y="605"/>
                    <a:pt x="154" y="633"/>
                    <a:pt x="140" y="674"/>
                  </a:cubicBezTo>
                  <a:cubicBezTo>
                    <a:pt x="126" y="715"/>
                    <a:pt x="105" y="765"/>
                    <a:pt x="82" y="810"/>
                  </a:cubicBezTo>
                  <a:cubicBezTo>
                    <a:pt x="59" y="855"/>
                    <a:pt x="17" y="915"/>
                    <a:pt x="0" y="942"/>
                  </a:cubicBezTo>
                </a:path>
              </a:pathLst>
            </a:custGeom>
            <a:noFill/>
            <a:ln w="54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1044720" y="784080"/>
              <a:ext cx="2561400" cy="1893960"/>
              <a:chOff x="1044720" y="784080"/>
              <a:chExt cx="2561400" cy="18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1044720" y="2017080"/>
                <a:ext cx="9288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20161800">
                <a:off x="1160280" y="2633040"/>
                <a:ext cx="9252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000">
                <a:off x="1212480" y="1415880"/>
                <a:ext cx="9288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3267600">
                <a:off x="1658880" y="979200"/>
                <a:ext cx="9288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7157400">
                <a:off x="2851200" y="962640"/>
                <a:ext cx="9288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5400000">
                <a:off x="2251800" y="816840"/>
                <a:ext cx="9288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8549400">
                <a:off x="3310920" y="1380600"/>
                <a:ext cx="9288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0800000">
                <a:off x="3513240" y="1971360"/>
                <a:ext cx="9288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2584400">
                <a:off x="3408840" y="2577960"/>
                <a:ext cx="9288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2599200" y="812520"/>
                <a:ext cx="22320" cy="96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3128400" y="1116360"/>
                <a:ext cx="62280" cy="76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511800" y="2292840"/>
                <a:ext cx="76680" cy="12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3482280" y="1668600"/>
                <a:ext cx="54360" cy="15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067040" y="2344320"/>
                <a:ext cx="68400" cy="9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 flipV="1">
                <a:off x="1074960" y="1703520"/>
                <a:ext cx="87840" cy="21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 flipV="1">
                <a:off x="1414800" y="1146600"/>
                <a:ext cx="78480" cy="67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flipV="1">
                <a:off x="1974600" y="820440"/>
                <a:ext cx="25200" cy="80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"/>
          <p:cNvGrpSpPr/>
          <p:nvPr/>
        </p:nvGrpSpPr>
        <p:grpSpPr>
          <a:xfrm>
            <a:off x="655560" y="357120"/>
            <a:ext cx="3139920" cy="3222360"/>
            <a:chOff x="655560" y="357120"/>
            <a:chExt cx="3139920" cy="3222360"/>
          </a:xfrm>
        </p:grpSpPr>
        <p:sp>
          <p:nvSpPr>
            <p:cNvPr id="132" name=""/>
            <p:cNvSpPr/>
            <p:nvPr/>
          </p:nvSpPr>
          <p:spPr>
            <a:xfrm>
              <a:off x="1276200" y="357120"/>
              <a:ext cx="153720" cy="15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72120" y="395640"/>
              <a:ext cx="153720" cy="155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41760" y="3423960"/>
              <a:ext cx="153720" cy="15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560" y="3346560"/>
              <a:ext cx="153720" cy="15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06080" y="3229560"/>
              <a:ext cx="234000" cy="23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90880" y="1872000"/>
              <a:ext cx="465120" cy="42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40960" y="2026080"/>
              <a:ext cx="115560" cy="115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27080" y="2026080"/>
              <a:ext cx="115200" cy="115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79480" y="2531520"/>
              <a:ext cx="194040" cy="1940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880" y="2531520"/>
              <a:ext cx="193680" cy="194040"/>
            </a:xfrm>
            <a:custGeom>
              <a:avLst/>
              <a:gdLst>
                <a:gd name="textAreaLeft" fmla="*/ 9360 w 193680"/>
                <a:gd name="textAreaRight" fmla="*/ 184320 w 193680"/>
                <a:gd name="textAreaTop" fmla="*/ 9360 h 194040"/>
                <a:gd name="textAreaBottom" fmla="*/ 184680 h 194040"/>
              </a:gdLst>
              <a:ahLst/>
              <a:rect l="textAreaLeft" t="textAreaTop" r="textAreaRight" b="textAreaBottom"/>
              <a:pathLst>
                <a:path w="21600" h="21640">
                  <a:moveTo>
                    <a:pt x="3600" y="0"/>
                  </a:moveTo>
                  <a:arcTo wR="3600" hR="3600" stAng="16200000" swAng="-5400000"/>
                  <a:lnTo>
                    <a:pt x="0" y="18040"/>
                  </a:lnTo>
                  <a:arcTo wR="3600" hR="3600" stAng="10800000" swAng="-5400000"/>
                  <a:lnTo>
                    <a:pt x="18000" y="216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1960" y="2531520"/>
              <a:ext cx="194040" cy="1940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73000" y="2531520"/>
              <a:ext cx="194040" cy="1940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480" y="1445040"/>
              <a:ext cx="1047240" cy="1936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673360" y="2921040"/>
            <a:ext cx="85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16000" y="281772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3560" y="256536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4520" y="19558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5120" y="125424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55600" y="71928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31960" y="44784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62040" y="44784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37000" y="190656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22520" y="125748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36960" y="75420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38080" y="16765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00:21:38Z</dcterms:created>
  <dc:creator>Betsy Flint</dc:creator>
  <dc:description/>
  <dc:language>en-US</dc:language>
  <cp:lastModifiedBy>Betsy Flint</cp:lastModifiedBy>
  <dcterms:modified xsi:type="dcterms:W3CDTF">2004-07-30T00:43:11Z</dcterms:modified>
  <cp:revision>3</cp:revision>
  <dc:subject/>
  <dc:title>Slide 1</dc:title>
</cp:coreProperties>
</file>