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F12-0200-43A7-B771-7A4F790C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513-486D-4053-B9AA-966A27E6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9FB-8D12-4F05-A63A-C275E785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E09-CF46-468A-8A17-1B6A9353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947-D310-47DE-AA95-4816572A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B6E-9A7E-4F25-A51E-D030902E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B9D-1771-4154-AC30-95A9523E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2AE-EA36-4B38-BA09-EDE237DF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CA8-E9D6-4C2C-AC05-FB910F87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92E-6F70-4F39-ADEC-29874357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EF0-89A3-4935-AE6F-A09E558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4AC-03E3-443A-B13E-9FC9A55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ED10-1224-4039-893C-9CD211F0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000" y="87480"/>
            <a:ext cx="3981240" cy="4152600"/>
          </a:xfrm>
          <a:custGeom>
            <a:avLst/>
            <a:gdLst/>
            <a:ahLst/>
            <a:rect l="l" t="t" r="r" b="b"/>
            <a:pathLst>
              <a:path w="2508" h="2616">
                <a:moveTo>
                  <a:pt x="74" y="440"/>
                </a:moveTo>
                <a:lnTo>
                  <a:pt x="28" y="476"/>
                </a:lnTo>
                <a:lnTo>
                  <a:pt x="8" y="518"/>
                </a:lnTo>
                <a:lnTo>
                  <a:pt x="0" y="2510"/>
                </a:lnTo>
                <a:lnTo>
                  <a:pt x="32" y="2580"/>
                </a:lnTo>
                <a:lnTo>
                  <a:pt x="94" y="2608"/>
                </a:lnTo>
                <a:lnTo>
                  <a:pt x="1328" y="2616"/>
                </a:lnTo>
                <a:lnTo>
                  <a:pt x="1542" y="2582"/>
                </a:lnTo>
                <a:lnTo>
                  <a:pt x="1726" y="2520"/>
                </a:lnTo>
                <a:lnTo>
                  <a:pt x="1886" y="2436"/>
                </a:lnTo>
                <a:lnTo>
                  <a:pt x="2032" y="2350"/>
                </a:lnTo>
                <a:lnTo>
                  <a:pt x="2064" y="2306"/>
                </a:lnTo>
                <a:lnTo>
                  <a:pt x="2116" y="2262"/>
                </a:lnTo>
                <a:lnTo>
                  <a:pt x="2230" y="2142"/>
                </a:lnTo>
                <a:lnTo>
                  <a:pt x="2310" y="2018"/>
                </a:lnTo>
                <a:lnTo>
                  <a:pt x="2372" y="1914"/>
                </a:lnTo>
                <a:lnTo>
                  <a:pt x="2448" y="1728"/>
                </a:lnTo>
                <a:lnTo>
                  <a:pt x="2498" y="1518"/>
                </a:lnTo>
                <a:lnTo>
                  <a:pt x="2508" y="1298"/>
                </a:lnTo>
                <a:lnTo>
                  <a:pt x="2498" y="1044"/>
                </a:lnTo>
                <a:lnTo>
                  <a:pt x="2458" y="824"/>
                </a:lnTo>
                <a:lnTo>
                  <a:pt x="2412" y="700"/>
                </a:lnTo>
                <a:lnTo>
                  <a:pt x="2342" y="552"/>
                </a:lnTo>
                <a:lnTo>
                  <a:pt x="2244" y="404"/>
                </a:lnTo>
                <a:lnTo>
                  <a:pt x="2072" y="222"/>
                </a:lnTo>
                <a:lnTo>
                  <a:pt x="1902" y="108"/>
                </a:lnTo>
                <a:lnTo>
                  <a:pt x="1710" y="4"/>
                </a:lnTo>
                <a:lnTo>
                  <a:pt x="802" y="0"/>
                </a:lnTo>
                <a:lnTo>
                  <a:pt x="794" y="46"/>
                </a:lnTo>
                <a:lnTo>
                  <a:pt x="680" y="42"/>
                </a:lnTo>
                <a:lnTo>
                  <a:pt x="644" y="20"/>
                </a:lnTo>
                <a:lnTo>
                  <a:pt x="494" y="18"/>
                </a:lnTo>
                <a:lnTo>
                  <a:pt x="452" y="48"/>
                </a:lnTo>
                <a:lnTo>
                  <a:pt x="452" y="144"/>
                </a:lnTo>
                <a:cubicBezTo>
                  <a:pt x="445" y="172"/>
                  <a:pt x="428" y="196"/>
                  <a:pt x="408" y="214"/>
                </a:cubicBezTo>
                <a:cubicBezTo>
                  <a:pt x="388" y="232"/>
                  <a:pt x="372" y="245"/>
                  <a:pt x="332" y="252"/>
                </a:cubicBezTo>
                <a:lnTo>
                  <a:pt x="166" y="254"/>
                </a:lnTo>
                <a:lnTo>
                  <a:pt x="142" y="294"/>
                </a:lnTo>
                <a:lnTo>
                  <a:pt x="140" y="426"/>
                </a:lnTo>
                <a:lnTo>
                  <a:pt x="74" y="4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0200" y="1187280"/>
          <a:ext cx="170496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187280"/>
                    <a:ext cx="170496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"/>
          <p:cNvGrpSpPr/>
          <p:nvPr/>
        </p:nvGrpSpPr>
        <p:grpSpPr>
          <a:xfrm>
            <a:off x="620640" y="569880"/>
            <a:ext cx="2976120" cy="2798640"/>
            <a:chOff x="620640" y="569880"/>
            <a:chExt cx="2976120" cy="2798640"/>
          </a:xfrm>
        </p:grpSpPr>
        <p:sp>
          <p:nvSpPr>
            <p:cNvPr id="45" name=""/>
            <p:cNvSpPr/>
            <p:nvPr/>
          </p:nvSpPr>
          <p:spPr>
            <a:xfrm>
              <a:off x="620640" y="976320"/>
              <a:ext cx="907920" cy="1974600"/>
            </a:xfrm>
            <a:custGeom>
              <a:avLst/>
              <a:gdLst/>
              <a:ahLst/>
              <a:rect l="l" t="t" r="r" b="b"/>
              <a:pathLst>
                <a:path w="572" h="1244">
                  <a:moveTo>
                    <a:pt x="244" y="12"/>
                  </a:moveTo>
                  <a:cubicBezTo>
                    <a:pt x="224" y="31"/>
                    <a:pt x="184" y="69"/>
                    <a:pt x="156" y="112"/>
                  </a:cubicBezTo>
                  <a:cubicBezTo>
                    <a:pt x="128" y="155"/>
                    <a:pt x="99" y="206"/>
                    <a:pt x="76" y="268"/>
                  </a:cubicBezTo>
                  <a:cubicBezTo>
                    <a:pt x="53" y="330"/>
                    <a:pt x="28" y="409"/>
                    <a:pt x="16" y="481"/>
                  </a:cubicBezTo>
                  <a:cubicBezTo>
                    <a:pt x="4" y="553"/>
                    <a:pt x="0" y="635"/>
                    <a:pt x="4" y="703"/>
                  </a:cubicBezTo>
                  <a:cubicBezTo>
                    <a:pt x="8" y="771"/>
                    <a:pt x="25" y="834"/>
                    <a:pt x="41" y="891"/>
                  </a:cubicBezTo>
                  <a:cubicBezTo>
                    <a:pt x="57" y="948"/>
                    <a:pt x="69" y="989"/>
                    <a:pt x="101" y="1047"/>
                  </a:cubicBezTo>
                  <a:cubicBezTo>
                    <a:pt x="133" y="1105"/>
                    <a:pt x="202" y="1209"/>
                    <a:pt x="234" y="1242"/>
                  </a:cubicBezTo>
                  <a:lnTo>
                    <a:pt x="292" y="1244"/>
                  </a:lnTo>
                  <a:lnTo>
                    <a:pt x="324" y="1237"/>
                  </a:lnTo>
                  <a:lnTo>
                    <a:pt x="567" y="994"/>
                  </a:lnTo>
                  <a:lnTo>
                    <a:pt x="572" y="936"/>
                  </a:lnTo>
                  <a:lnTo>
                    <a:pt x="497" y="816"/>
                  </a:lnTo>
                  <a:lnTo>
                    <a:pt x="462" y="666"/>
                  </a:lnTo>
                  <a:lnTo>
                    <a:pt x="464" y="563"/>
                  </a:lnTo>
                  <a:lnTo>
                    <a:pt x="507" y="421"/>
                  </a:lnTo>
                  <a:lnTo>
                    <a:pt x="570" y="315"/>
                  </a:lnTo>
                  <a:lnTo>
                    <a:pt x="570" y="268"/>
                  </a:lnTo>
                  <a:lnTo>
                    <a:pt x="317" y="10"/>
                  </a:lnTo>
                  <a:lnTo>
                    <a:pt x="277" y="0"/>
                  </a:lnTo>
                  <a:lnTo>
                    <a:pt x="244" y="1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688120" y="982440"/>
              <a:ext cx="908280" cy="1974960"/>
            </a:xfrm>
            <a:custGeom>
              <a:avLst/>
              <a:gdLst/>
              <a:ahLst/>
              <a:rect l="l" t="t" r="r" b="b"/>
              <a:pathLst>
                <a:path w="572" h="1244">
                  <a:moveTo>
                    <a:pt x="244" y="12"/>
                  </a:moveTo>
                  <a:cubicBezTo>
                    <a:pt x="224" y="31"/>
                    <a:pt x="184" y="69"/>
                    <a:pt x="156" y="112"/>
                  </a:cubicBezTo>
                  <a:cubicBezTo>
                    <a:pt x="128" y="155"/>
                    <a:pt x="99" y="206"/>
                    <a:pt x="76" y="268"/>
                  </a:cubicBezTo>
                  <a:cubicBezTo>
                    <a:pt x="53" y="330"/>
                    <a:pt x="28" y="409"/>
                    <a:pt x="16" y="481"/>
                  </a:cubicBezTo>
                  <a:cubicBezTo>
                    <a:pt x="4" y="553"/>
                    <a:pt x="0" y="635"/>
                    <a:pt x="4" y="703"/>
                  </a:cubicBezTo>
                  <a:cubicBezTo>
                    <a:pt x="8" y="771"/>
                    <a:pt x="25" y="834"/>
                    <a:pt x="41" y="891"/>
                  </a:cubicBezTo>
                  <a:cubicBezTo>
                    <a:pt x="57" y="948"/>
                    <a:pt x="69" y="989"/>
                    <a:pt x="101" y="1047"/>
                  </a:cubicBezTo>
                  <a:cubicBezTo>
                    <a:pt x="133" y="1105"/>
                    <a:pt x="202" y="1209"/>
                    <a:pt x="234" y="1242"/>
                  </a:cubicBezTo>
                  <a:lnTo>
                    <a:pt x="292" y="1244"/>
                  </a:lnTo>
                  <a:lnTo>
                    <a:pt x="324" y="1237"/>
                  </a:lnTo>
                  <a:lnTo>
                    <a:pt x="567" y="994"/>
                  </a:lnTo>
                  <a:lnTo>
                    <a:pt x="572" y="936"/>
                  </a:lnTo>
                  <a:lnTo>
                    <a:pt x="497" y="816"/>
                  </a:lnTo>
                  <a:lnTo>
                    <a:pt x="462" y="666"/>
                  </a:lnTo>
                  <a:lnTo>
                    <a:pt x="464" y="563"/>
                  </a:lnTo>
                  <a:lnTo>
                    <a:pt x="507" y="421"/>
                  </a:lnTo>
                  <a:lnTo>
                    <a:pt x="570" y="315"/>
                  </a:lnTo>
                  <a:lnTo>
                    <a:pt x="570" y="268"/>
                  </a:lnTo>
                  <a:lnTo>
                    <a:pt x="317" y="10"/>
                  </a:lnTo>
                  <a:lnTo>
                    <a:pt x="277" y="0"/>
                  </a:lnTo>
                  <a:lnTo>
                    <a:pt x="244" y="1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71480" y="569880"/>
              <a:ext cx="887400" cy="498600"/>
            </a:xfrm>
            <a:custGeom>
              <a:avLst/>
              <a:gdLst/>
              <a:ahLst/>
              <a:rect l="l" t="t" r="r" b="b"/>
              <a:pathLst>
                <a:path w="559" h="314">
                  <a:moveTo>
                    <a:pt x="20" y="40"/>
                  </a:moveTo>
                  <a:lnTo>
                    <a:pt x="155" y="8"/>
                  </a:lnTo>
                  <a:lnTo>
                    <a:pt x="288" y="0"/>
                  </a:lnTo>
                  <a:cubicBezTo>
                    <a:pt x="336" y="2"/>
                    <a:pt x="398" y="10"/>
                    <a:pt x="441" y="17"/>
                  </a:cubicBezTo>
                  <a:cubicBezTo>
                    <a:pt x="484" y="24"/>
                    <a:pt x="529" y="35"/>
                    <a:pt x="549" y="43"/>
                  </a:cubicBezTo>
                  <a:lnTo>
                    <a:pt x="559" y="68"/>
                  </a:lnTo>
                  <a:lnTo>
                    <a:pt x="471" y="311"/>
                  </a:lnTo>
                  <a:lnTo>
                    <a:pt x="443" y="314"/>
                  </a:lnTo>
                  <a:lnTo>
                    <a:pt x="411" y="308"/>
                  </a:lnTo>
                  <a:lnTo>
                    <a:pt x="375" y="298"/>
                  </a:lnTo>
                  <a:lnTo>
                    <a:pt x="298" y="293"/>
                  </a:lnTo>
                  <a:lnTo>
                    <a:pt x="203" y="296"/>
                  </a:lnTo>
                  <a:lnTo>
                    <a:pt x="143" y="308"/>
                  </a:lnTo>
                  <a:lnTo>
                    <a:pt x="117" y="314"/>
                  </a:lnTo>
                  <a:lnTo>
                    <a:pt x="83" y="313"/>
                  </a:lnTo>
                  <a:lnTo>
                    <a:pt x="0" y="70"/>
                  </a:lnTo>
                  <a:lnTo>
                    <a:pt x="6" y="58"/>
                  </a:lnTo>
                  <a:lnTo>
                    <a:pt x="20" y="4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671480" y="2870280"/>
              <a:ext cx="887400" cy="498240"/>
            </a:xfrm>
            <a:custGeom>
              <a:avLst/>
              <a:gdLst/>
              <a:ahLst/>
              <a:rect l="l" t="t" r="r" b="b"/>
              <a:pathLst>
                <a:path w="559" h="314">
                  <a:moveTo>
                    <a:pt x="20" y="40"/>
                  </a:moveTo>
                  <a:lnTo>
                    <a:pt x="155" y="8"/>
                  </a:lnTo>
                  <a:lnTo>
                    <a:pt x="288" y="0"/>
                  </a:lnTo>
                  <a:cubicBezTo>
                    <a:pt x="336" y="2"/>
                    <a:pt x="398" y="10"/>
                    <a:pt x="441" y="17"/>
                  </a:cubicBezTo>
                  <a:cubicBezTo>
                    <a:pt x="484" y="24"/>
                    <a:pt x="529" y="35"/>
                    <a:pt x="549" y="43"/>
                  </a:cubicBezTo>
                  <a:lnTo>
                    <a:pt x="559" y="68"/>
                  </a:lnTo>
                  <a:lnTo>
                    <a:pt x="471" y="311"/>
                  </a:lnTo>
                  <a:lnTo>
                    <a:pt x="443" y="314"/>
                  </a:lnTo>
                  <a:lnTo>
                    <a:pt x="411" y="308"/>
                  </a:lnTo>
                  <a:lnTo>
                    <a:pt x="375" y="298"/>
                  </a:lnTo>
                  <a:lnTo>
                    <a:pt x="298" y="293"/>
                  </a:lnTo>
                  <a:lnTo>
                    <a:pt x="203" y="296"/>
                  </a:lnTo>
                  <a:lnTo>
                    <a:pt x="143" y="308"/>
                  </a:lnTo>
                  <a:lnTo>
                    <a:pt x="117" y="314"/>
                  </a:lnTo>
                  <a:lnTo>
                    <a:pt x="83" y="313"/>
                  </a:lnTo>
                  <a:lnTo>
                    <a:pt x="0" y="70"/>
                  </a:lnTo>
                  <a:lnTo>
                    <a:pt x="6" y="58"/>
                  </a:lnTo>
                  <a:lnTo>
                    <a:pt x="20" y="4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879800" y="241200"/>
            <a:ext cx="3924360" cy="3876840"/>
            <a:chOff x="4879800" y="241200"/>
            <a:chExt cx="3924360" cy="3876840"/>
          </a:xfrm>
        </p:grpSpPr>
        <p:sp>
          <p:nvSpPr>
            <p:cNvPr id="50" name=""/>
            <p:cNvSpPr/>
            <p:nvPr/>
          </p:nvSpPr>
          <p:spPr>
            <a:xfrm>
              <a:off x="4879800" y="241200"/>
              <a:ext cx="3924360" cy="3876840"/>
            </a:xfrm>
            <a:custGeom>
              <a:avLst/>
              <a:gdLst/>
              <a:ahLst/>
              <a:rect l="l" t="t" r="r" b="b"/>
              <a:pathLst>
                <a:path w="2472" h="2442">
                  <a:moveTo>
                    <a:pt x="778" y="2426"/>
                  </a:moveTo>
                  <a:lnTo>
                    <a:pt x="964" y="2424"/>
                  </a:lnTo>
                  <a:lnTo>
                    <a:pt x="1034" y="2430"/>
                  </a:lnTo>
                  <a:lnTo>
                    <a:pt x="1080" y="2434"/>
                  </a:lnTo>
                  <a:lnTo>
                    <a:pt x="1164" y="2434"/>
                  </a:lnTo>
                  <a:lnTo>
                    <a:pt x="1236" y="2436"/>
                  </a:lnTo>
                  <a:lnTo>
                    <a:pt x="1296" y="2442"/>
                  </a:lnTo>
                  <a:lnTo>
                    <a:pt x="1330" y="2438"/>
                  </a:lnTo>
                  <a:lnTo>
                    <a:pt x="1426" y="2430"/>
                  </a:lnTo>
                  <a:lnTo>
                    <a:pt x="1540" y="2406"/>
                  </a:lnTo>
                  <a:lnTo>
                    <a:pt x="1660" y="2372"/>
                  </a:lnTo>
                  <a:lnTo>
                    <a:pt x="1779" y="2317"/>
                  </a:lnTo>
                  <a:lnTo>
                    <a:pt x="1842" y="2286"/>
                  </a:lnTo>
                  <a:lnTo>
                    <a:pt x="2008" y="2174"/>
                  </a:lnTo>
                  <a:lnTo>
                    <a:pt x="2080" y="2095"/>
                  </a:lnTo>
                  <a:lnTo>
                    <a:pt x="2190" y="1956"/>
                  </a:lnTo>
                  <a:lnTo>
                    <a:pt x="2472" y="1582"/>
                  </a:lnTo>
                  <a:lnTo>
                    <a:pt x="2444" y="456"/>
                  </a:lnTo>
                  <a:lnTo>
                    <a:pt x="2348" y="458"/>
                  </a:lnTo>
                  <a:lnTo>
                    <a:pt x="2346" y="360"/>
                  </a:lnTo>
                  <a:lnTo>
                    <a:pt x="2166" y="358"/>
                  </a:lnTo>
                  <a:lnTo>
                    <a:pt x="1716" y="0"/>
                  </a:lnTo>
                  <a:lnTo>
                    <a:pt x="920" y="12"/>
                  </a:lnTo>
                  <a:cubicBezTo>
                    <a:pt x="710" y="55"/>
                    <a:pt x="559" y="187"/>
                    <a:pt x="454" y="256"/>
                  </a:cubicBezTo>
                  <a:lnTo>
                    <a:pt x="290" y="428"/>
                  </a:lnTo>
                  <a:cubicBezTo>
                    <a:pt x="242" y="492"/>
                    <a:pt x="193" y="586"/>
                    <a:pt x="166" y="638"/>
                  </a:cubicBezTo>
                  <a:cubicBezTo>
                    <a:pt x="139" y="690"/>
                    <a:pt x="136" y="714"/>
                    <a:pt x="126" y="738"/>
                  </a:cubicBezTo>
                  <a:cubicBezTo>
                    <a:pt x="116" y="762"/>
                    <a:pt x="116" y="761"/>
                    <a:pt x="108" y="781"/>
                  </a:cubicBezTo>
                  <a:cubicBezTo>
                    <a:pt x="100" y="801"/>
                    <a:pt x="95" y="841"/>
                    <a:pt x="79" y="861"/>
                  </a:cubicBezTo>
                  <a:cubicBezTo>
                    <a:pt x="63" y="881"/>
                    <a:pt x="23" y="889"/>
                    <a:pt x="12" y="901"/>
                  </a:cubicBezTo>
                  <a:cubicBezTo>
                    <a:pt x="1" y="913"/>
                    <a:pt x="0" y="930"/>
                    <a:pt x="12" y="936"/>
                  </a:cubicBezTo>
                  <a:cubicBezTo>
                    <a:pt x="24" y="942"/>
                    <a:pt x="72" y="932"/>
                    <a:pt x="84" y="940"/>
                  </a:cubicBezTo>
                  <a:cubicBezTo>
                    <a:pt x="96" y="948"/>
                    <a:pt x="97" y="976"/>
                    <a:pt x="87" y="985"/>
                  </a:cubicBezTo>
                  <a:cubicBezTo>
                    <a:pt x="77" y="994"/>
                    <a:pt x="34" y="986"/>
                    <a:pt x="22" y="996"/>
                  </a:cubicBezTo>
                  <a:cubicBezTo>
                    <a:pt x="10" y="1006"/>
                    <a:pt x="11" y="1035"/>
                    <a:pt x="16" y="1047"/>
                  </a:cubicBezTo>
                  <a:cubicBezTo>
                    <a:pt x="21" y="1059"/>
                    <a:pt x="51" y="1049"/>
                    <a:pt x="55" y="1071"/>
                  </a:cubicBezTo>
                  <a:cubicBezTo>
                    <a:pt x="59" y="1093"/>
                    <a:pt x="45" y="1142"/>
                    <a:pt x="43" y="1177"/>
                  </a:cubicBezTo>
                  <a:cubicBezTo>
                    <a:pt x="41" y="1212"/>
                    <a:pt x="39" y="1235"/>
                    <a:pt x="43" y="1279"/>
                  </a:cubicBezTo>
                  <a:cubicBezTo>
                    <a:pt x="45" y="1341"/>
                    <a:pt x="36" y="1345"/>
                    <a:pt x="66" y="1442"/>
                  </a:cubicBezTo>
                  <a:cubicBezTo>
                    <a:pt x="79" y="1507"/>
                    <a:pt x="96" y="1602"/>
                    <a:pt x="121" y="1672"/>
                  </a:cubicBezTo>
                  <a:cubicBezTo>
                    <a:pt x="146" y="1742"/>
                    <a:pt x="186" y="1810"/>
                    <a:pt x="216" y="1864"/>
                  </a:cubicBezTo>
                  <a:lnTo>
                    <a:pt x="303" y="1996"/>
                  </a:lnTo>
                  <a:lnTo>
                    <a:pt x="402" y="2098"/>
                  </a:lnTo>
                  <a:lnTo>
                    <a:pt x="513" y="2197"/>
                  </a:lnTo>
                  <a:lnTo>
                    <a:pt x="622" y="2268"/>
                  </a:lnTo>
                  <a:lnTo>
                    <a:pt x="639" y="2286"/>
                  </a:lnTo>
                  <a:lnTo>
                    <a:pt x="645" y="2304"/>
                  </a:lnTo>
                  <a:lnTo>
                    <a:pt x="644" y="2424"/>
                  </a:lnTo>
                  <a:lnTo>
                    <a:pt x="780" y="2426"/>
                  </a:lnTo>
                  <a:lnTo>
                    <a:pt x="778" y="242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10240" y="812880"/>
              <a:ext cx="2478240" cy="25257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1920" y="2882880"/>
              <a:ext cx="1898640" cy="457200"/>
            </a:xfrm>
            <a:custGeom>
              <a:avLst/>
              <a:gdLst/>
              <a:ahLst/>
              <a:rect l="l" t="t" r="r" b="b"/>
              <a:pathLst>
                <a:path w="1196" h="288">
                  <a:moveTo>
                    <a:pt x="0" y="4"/>
                  </a:moveTo>
                  <a:lnTo>
                    <a:pt x="136" y="136"/>
                  </a:lnTo>
                  <a:lnTo>
                    <a:pt x="288" y="228"/>
                  </a:lnTo>
                  <a:lnTo>
                    <a:pt x="456" y="276"/>
                  </a:lnTo>
                  <a:lnTo>
                    <a:pt x="596" y="288"/>
                  </a:lnTo>
                  <a:lnTo>
                    <a:pt x="736" y="276"/>
                  </a:lnTo>
                  <a:lnTo>
                    <a:pt x="816" y="252"/>
                  </a:lnTo>
                  <a:lnTo>
                    <a:pt x="984" y="192"/>
                  </a:lnTo>
                  <a:lnTo>
                    <a:pt x="1100" y="100"/>
                  </a:lnTo>
                  <a:lnTo>
                    <a:pt x="1196" y="0"/>
                  </a:lnTo>
                </a:path>
              </a:pathLst>
            </a:custGeom>
            <a:solidFill>
              <a:srgbClr val="ffffff">
                <a:alpha val="49000"/>
              </a:srgbClr>
            </a:solidFill>
            <a:ln w="9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56920" y="17892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40880" y="11034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58800" y="1131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Firecat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31760" y="5475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23920" y="3967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23640" y="60804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53360" y="27986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64920" y="24876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12800" y="2503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Firecat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22240" y="1766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Firecat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5080" y="29764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Black"/>
                </a:rPr>
                <a:t>M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6270480" y="1417680"/>
              <a:ext cx="1160640" cy="1989000"/>
              <a:chOff x="6270480" y="1417680"/>
              <a:chExt cx="1160640" cy="198900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6326280" y="1417680"/>
                <a:ext cx="1058760" cy="1277640"/>
                <a:chOff x="6326280" y="1417680"/>
                <a:chExt cx="1058760" cy="1277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6326280" y="1417680"/>
                  <a:ext cx="1058760" cy="1277640"/>
                  <a:chOff x="6326280" y="1417680"/>
                  <a:chExt cx="1058760" cy="12776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6326280" y="1417680"/>
                    <a:ext cx="1022040" cy="210960"/>
                  </a:xfrm>
                  <a:prstGeom prst="roundRect">
                    <a:avLst>
                      <a:gd name="adj" fmla="val 1438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6332400" y="2501640"/>
                    <a:ext cx="1052640" cy="193680"/>
                    <a:chOff x="6332400" y="2501640"/>
                    <a:chExt cx="1052640" cy="19368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6332400" y="251748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6626160" y="251280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6921360" y="250956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7213680" y="250164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" name=""/>
                <p:cNvSpPr/>
                <p:nvPr/>
              </p:nvSpPr>
              <p:spPr>
                <a:xfrm>
                  <a:off x="6740640" y="1955520"/>
                  <a:ext cx="21888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6270480" y="2014560"/>
                <a:ext cx="1160640" cy="106200"/>
                <a:chOff x="6270480" y="2014560"/>
                <a:chExt cx="1160640" cy="1062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270480" y="2031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342200" y="20145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6788160" y="3235320"/>
                <a:ext cx="17784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130880" y="843120"/>
              <a:ext cx="746280" cy="523800"/>
            </a:xfrm>
            <a:custGeom>
              <a:avLst/>
              <a:gdLst/>
              <a:ahLst/>
              <a:rect l="l" t="t" r="r" b="b"/>
              <a:pathLst>
                <a:path w="470" h="330">
                  <a:moveTo>
                    <a:pt x="0" y="0"/>
                  </a:moveTo>
                  <a:lnTo>
                    <a:pt x="70" y="21"/>
                  </a:lnTo>
                  <a:lnTo>
                    <a:pt x="115" y="39"/>
                  </a:lnTo>
                  <a:lnTo>
                    <a:pt x="184" y="71"/>
                  </a:lnTo>
                  <a:lnTo>
                    <a:pt x="266" y="120"/>
                  </a:lnTo>
                  <a:cubicBezTo>
                    <a:pt x="295" y="141"/>
                    <a:pt x="333" y="174"/>
                    <a:pt x="358" y="198"/>
                  </a:cubicBezTo>
                  <a:cubicBezTo>
                    <a:pt x="383" y="222"/>
                    <a:pt x="399" y="239"/>
                    <a:pt x="418" y="261"/>
                  </a:cubicBezTo>
                  <a:cubicBezTo>
                    <a:pt x="437" y="283"/>
                    <a:pt x="459" y="316"/>
                    <a:pt x="470" y="330"/>
                  </a:cubicBezTo>
                </a:path>
              </a:pathLst>
            </a:custGeom>
            <a:noFill/>
            <a:ln w="54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10560" y="1386000"/>
              <a:ext cx="277920" cy="1495440"/>
            </a:xfrm>
            <a:custGeom>
              <a:avLst/>
              <a:gdLst/>
              <a:ahLst/>
              <a:rect l="l" t="t" r="r" b="b"/>
              <a:pathLst>
                <a:path w="175" h="942">
                  <a:moveTo>
                    <a:pt x="50" y="0"/>
                  </a:moveTo>
                  <a:cubicBezTo>
                    <a:pt x="64" y="28"/>
                    <a:pt x="114" y="122"/>
                    <a:pt x="132" y="170"/>
                  </a:cubicBezTo>
                  <a:cubicBezTo>
                    <a:pt x="150" y="218"/>
                    <a:pt x="153" y="249"/>
                    <a:pt x="160" y="290"/>
                  </a:cubicBezTo>
                  <a:cubicBezTo>
                    <a:pt x="167" y="331"/>
                    <a:pt x="173" y="373"/>
                    <a:pt x="174" y="418"/>
                  </a:cubicBezTo>
                  <a:cubicBezTo>
                    <a:pt x="175" y="463"/>
                    <a:pt x="170" y="519"/>
                    <a:pt x="164" y="562"/>
                  </a:cubicBezTo>
                  <a:cubicBezTo>
                    <a:pt x="158" y="605"/>
                    <a:pt x="154" y="633"/>
                    <a:pt x="140" y="674"/>
                  </a:cubicBezTo>
                  <a:cubicBezTo>
                    <a:pt x="126" y="715"/>
                    <a:pt x="105" y="765"/>
                    <a:pt x="82" y="810"/>
                  </a:cubicBezTo>
                  <a:cubicBezTo>
                    <a:pt x="59" y="855"/>
                    <a:pt x="17" y="915"/>
                    <a:pt x="0" y="942"/>
                  </a:cubicBezTo>
                </a:path>
              </a:pathLst>
            </a:custGeom>
            <a:noFill/>
            <a:ln w="54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580000" y="782640"/>
              <a:ext cx="2536920" cy="1873440"/>
              <a:chOff x="5580000" y="782640"/>
              <a:chExt cx="2536920" cy="1873440"/>
            </a:xfrm>
          </p:grpSpPr>
          <p:sp>
            <p:nvSpPr>
              <p:cNvPr id="81" name=""/>
              <p:cNvSpPr/>
              <p:nvPr/>
            </p:nvSpPr>
            <p:spPr>
              <a:xfrm>
                <a:off x="5580000" y="200196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161800">
                <a:off x="5694480" y="2611080"/>
                <a:ext cx="9180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18000">
                <a:off x="5746320" y="140760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3267600">
                <a:off x="6188400" y="97524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7157400">
                <a:off x="7369200" y="95904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5400000">
                <a:off x="6775560" y="81504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8549400">
                <a:off x="7824240" y="137232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0800000">
                <a:off x="8024760" y="195696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2584400">
                <a:off x="7921440" y="255708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119720" y="811080"/>
                <a:ext cx="22320" cy="9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7643880" y="1111320"/>
                <a:ext cx="6192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023320" y="2274840"/>
                <a:ext cx="75960" cy="12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7994520" y="1657440"/>
                <a:ext cx="54000" cy="15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601960" y="2325600"/>
                <a:ext cx="68040" cy="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5610240" y="1692000"/>
                <a:ext cx="87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flipV="1">
                <a:off x="5946840" y="1141200"/>
                <a:ext cx="77760" cy="6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6500880" y="818640"/>
                <a:ext cx="2520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1465200" y="4281480"/>
            <a:ext cx="2735280" cy="2496960"/>
            <a:chOff x="1465200" y="4281480"/>
            <a:chExt cx="2735280" cy="2496960"/>
          </a:xfrm>
        </p:grpSpPr>
        <p:sp>
          <p:nvSpPr>
            <p:cNvPr id="99" name=""/>
            <p:cNvSpPr/>
            <p:nvPr/>
          </p:nvSpPr>
          <p:spPr>
            <a:xfrm>
              <a:off x="2517840" y="4281480"/>
              <a:ext cx="1682640" cy="2470320"/>
            </a:xfrm>
            <a:custGeom>
              <a:avLst/>
              <a:gdLst/>
              <a:ahLst/>
              <a:rect l="l" t="t" r="r" b="b"/>
              <a:pathLst>
                <a:path w="1060" h="1556">
                  <a:moveTo>
                    <a:pt x="12" y="476"/>
                  </a:moveTo>
                  <a:lnTo>
                    <a:pt x="68" y="412"/>
                  </a:lnTo>
                  <a:lnTo>
                    <a:pt x="256" y="412"/>
                  </a:lnTo>
                  <a:lnTo>
                    <a:pt x="280" y="376"/>
                  </a:lnTo>
                  <a:lnTo>
                    <a:pt x="412" y="0"/>
                  </a:lnTo>
                  <a:lnTo>
                    <a:pt x="668" y="0"/>
                  </a:lnTo>
                  <a:cubicBezTo>
                    <a:pt x="756" y="50"/>
                    <a:pt x="875" y="199"/>
                    <a:pt x="940" y="300"/>
                  </a:cubicBezTo>
                  <a:cubicBezTo>
                    <a:pt x="1005" y="401"/>
                    <a:pt x="1040" y="480"/>
                    <a:pt x="1060" y="604"/>
                  </a:cubicBezTo>
                  <a:lnTo>
                    <a:pt x="1060" y="1044"/>
                  </a:lnTo>
                  <a:lnTo>
                    <a:pt x="652" y="1556"/>
                  </a:lnTo>
                  <a:lnTo>
                    <a:pt x="520" y="1552"/>
                  </a:lnTo>
                  <a:lnTo>
                    <a:pt x="324" y="1320"/>
                  </a:lnTo>
                  <a:lnTo>
                    <a:pt x="276" y="1184"/>
                  </a:lnTo>
                  <a:lnTo>
                    <a:pt x="236" y="1156"/>
                  </a:lnTo>
                  <a:lnTo>
                    <a:pt x="52" y="1156"/>
                  </a:lnTo>
                  <a:lnTo>
                    <a:pt x="0" y="1080"/>
                  </a:lnTo>
                  <a:lnTo>
                    <a:pt x="12" y="4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65200" y="4370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344400">
              <a:off x="3018240" y="5916960"/>
              <a:ext cx="638280" cy="76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3411000">
              <a:off x="3008160" y="4495680"/>
              <a:ext cx="7128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20475600">
              <a:off x="3658680" y="510588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459000">
              <a:off x="3713040" y="571824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672800">
              <a:off x="3633840" y="5999760"/>
              <a:ext cx="10296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98680" y="464508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4480" y="6022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3121200" y="5235480"/>
            <a:ext cx="480960" cy="43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1200" y="523548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0" name=""/>
          <p:cNvGrpSpPr/>
          <p:nvPr/>
        </p:nvGrpSpPr>
        <p:grpSpPr>
          <a:xfrm>
            <a:off x="4568760" y="4027320"/>
            <a:ext cx="2725920" cy="2808360"/>
            <a:chOff x="4568760" y="4027320"/>
            <a:chExt cx="2725920" cy="2808360"/>
          </a:xfrm>
        </p:grpSpPr>
        <p:sp>
          <p:nvSpPr>
            <p:cNvPr id="111" name=""/>
            <p:cNvSpPr/>
            <p:nvPr/>
          </p:nvSpPr>
          <p:spPr>
            <a:xfrm>
              <a:off x="4568760" y="4027320"/>
              <a:ext cx="1595520" cy="2808360"/>
            </a:xfrm>
            <a:custGeom>
              <a:avLst/>
              <a:gdLst/>
              <a:ahLst/>
              <a:rect l="l" t="t" r="r" b="b"/>
              <a:pathLst>
                <a:path w="1005" h="1769">
                  <a:moveTo>
                    <a:pt x="0" y="324"/>
                  </a:moveTo>
                  <a:lnTo>
                    <a:pt x="332" y="0"/>
                  </a:lnTo>
                  <a:lnTo>
                    <a:pt x="628" y="4"/>
                  </a:lnTo>
                  <a:lnTo>
                    <a:pt x="772" y="478"/>
                  </a:lnTo>
                  <a:lnTo>
                    <a:pt x="988" y="464"/>
                  </a:lnTo>
                  <a:lnTo>
                    <a:pt x="993" y="562"/>
                  </a:lnTo>
                  <a:lnTo>
                    <a:pt x="1005" y="1256"/>
                  </a:lnTo>
                  <a:lnTo>
                    <a:pt x="764" y="1248"/>
                  </a:lnTo>
                  <a:lnTo>
                    <a:pt x="562" y="1769"/>
                  </a:lnTo>
                  <a:lnTo>
                    <a:pt x="460" y="1726"/>
                  </a:lnTo>
                  <a:lnTo>
                    <a:pt x="310" y="1624"/>
                  </a:lnTo>
                  <a:lnTo>
                    <a:pt x="210" y="1519"/>
                  </a:lnTo>
                  <a:lnTo>
                    <a:pt x="114" y="1396"/>
                  </a:lnTo>
                  <a:lnTo>
                    <a:pt x="52" y="1280"/>
                  </a:lnTo>
                  <a:lnTo>
                    <a:pt x="8" y="1152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70520" y="4262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9796400">
              <a:off x="5051520" y="5845320"/>
              <a:ext cx="66672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803600">
              <a:off x="5052960" y="4179600"/>
              <a:ext cx="666720" cy="72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906800" y="5053320"/>
              <a:ext cx="162000" cy="655560"/>
              <a:chOff x="4906800" y="5053320"/>
              <a:chExt cx="162000" cy="655560"/>
            </a:xfrm>
          </p:grpSpPr>
          <p:sp>
            <p:nvSpPr>
              <p:cNvPr id="116" name=""/>
              <p:cNvSpPr/>
              <p:nvPr/>
            </p:nvSpPr>
            <p:spPr>
              <a:xfrm rot="1124400">
                <a:off x="4960440" y="506844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06800" y="536220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0763600">
                <a:off x="4929120" y="5650920"/>
                <a:ext cx="10296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108400" y="45277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0960" y="586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9"/>
            <a:stretch/>
          </p:blipFill>
          <p:spPr>
            <a:xfrm>
              <a:off x="5226120" y="5145120"/>
              <a:ext cx="34776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5000" y="87480"/>
            <a:ext cx="3981240" cy="4152600"/>
          </a:xfrm>
          <a:custGeom>
            <a:avLst/>
            <a:gdLst/>
            <a:ahLst/>
            <a:rect l="l" t="t" r="r" b="b"/>
            <a:pathLst>
              <a:path w="2508" h="2616">
                <a:moveTo>
                  <a:pt x="74" y="440"/>
                </a:moveTo>
                <a:lnTo>
                  <a:pt x="28" y="476"/>
                </a:lnTo>
                <a:lnTo>
                  <a:pt x="8" y="518"/>
                </a:lnTo>
                <a:lnTo>
                  <a:pt x="0" y="2510"/>
                </a:lnTo>
                <a:lnTo>
                  <a:pt x="32" y="2580"/>
                </a:lnTo>
                <a:lnTo>
                  <a:pt x="94" y="2608"/>
                </a:lnTo>
                <a:lnTo>
                  <a:pt x="1328" y="2616"/>
                </a:lnTo>
                <a:lnTo>
                  <a:pt x="1542" y="2582"/>
                </a:lnTo>
                <a:lnTo>
                  <a:pt x="1726" y="2520"/>
                </a:lnTo>
                <a:lnTo>
                  <a:pt x="1886" y="2436"/>
                </a:lnTo>
                <a:lnTo>
                  <a:pt x="2032" y="2350"/>
                </a:lnTo>
                <a:lnTo>
                  <a:pt x="2064" y="2306"/>
                </a:lnTo>
                <a:lnTo>
                  <a:pt x="2116" y="2262"/>
                </a:lnTo>
                <a:lnTo>
                  <a:pt x="2230" y="2142"/>
                </a:lnTo>
                <a:lnTo>
                  <a:pt x="2310" y="2018"/>
                </a:lnTo>
                <a:lnTo>
                  <a:pt x="2372" y="1914"/>
                </a:lnTo>
                <a:lnTo>
                  <a:pt x="2448" y="1728"/>
                </a:lnTo>
                <a:lnTo>
                  <a:pt x="2498" y="1518"/>
                </a:lnTo>
                <a:lnTo>
                  <a:pt x="2508" y="1298"/>
                </a:lnTo>
                <a:lnTo>
                  <a:pt x="2498" y="1044"/>
                </a:lnTo>
                <a:lnTo>
                  <a:pt x="2458" y="824"/>
                </a:lnTo>
                <a:lnTo>
                  <a:pt x="2412" y="700"/>
                </a:lnTo>
                <a:lnTo>
                  <a:pt x="2342" y="552"/>
                </a:lnTo>
                <a:lnTo>
                  <a:pt x="2244" y="404"/>
                </a:lnTo>
                <a:lnTo>
                  <a:pt x="2072" y="222"/>
                </a:lnTo>
                <a:lnTo>
                  <a:pt x="1902" y="108"/>
                </a:lnTo>
                <a:lnTo>
                  <a:pt x="1710" y="4"/>
                </a:lnTo>
                <a:lnTo>
                  <a:pt x="802" y="0"/>
                </a:lnTo>
                <a:lnTo>
                  <a:pt x="794" y="46"/>
                </a:lnTo>
                <a:lnTo>
                  <a:pt x="680" y="42"/>
                </a:lnTo>
                <a:lnTo>
                  <a:pt x="644" y="20"/>
                </a:lnTo>
                <a:lnTo>
                  <a:pt x="494" y="18"/>
                </a:lnTo>
                <a:lnTo>
                  <a:pt x="452" y="48"/>
                </a:lnTo>
                <a:lnTo>
                  <a:pt x="452" y="144"/>
                </a:lnTo>
                <a:cubicBezTo>
                  <a:pt x="445" y="172"/>
                  <a:pt x="428" y="196"/>
                  <a:pt x="408" y="214"/>
                </a:cubicBezTo>
                <a:cubicBezTo>
                  <a:pt x="388" y="232"/>
                  <a:pt x="372" y="245"/>
                  <a:pt x="332" y="252"/>
                </a:cubicBezTo>
                <a:lnTo>
                  <a:pt x="166" y="254"/>
                </a:lnTo>
                <a:lnTo>
                  <a:pt x="142" y="294"/>
                </a:lnTo>
                <a:lnTo>
                  <a:pt x="140" y="426"/>
                </a:lnTo>
                <a:lnTo>
                  <a:pt x="74" y="4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37080" y="-172440"/>
            <a:ext cx="4390560" cy="4383720"/>
            <a:chOff x="-37080" y="-172440"/>
            <a:chExt cx="4390560" cy="4383720"/>
          </a:xfrm>
        </p:grpSpPr>
        <p:sp>
          <p:nvSpPr>
            <p:cNvPr id="124" name=""/>
            <p:cNvSpPr/>
            <p:nvPr/>
          </p:nvSpPr>
          <p:spPr>
            <a:xfrm>
              <a:off x="1927080" y="1808280"/>
              <a:ext cx="460440" cy="46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2960" y="20001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17920" y="1960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-37080" y="-172440"/>
              <a:ext cx="4390560" cy="4383720"/>
              <a:chOff x="-37080" y="-172440"/>
              <a:chExt cx="4390560" cy="4383720"/>
            </a:xfrm>
          </p:grpSpPr>
          <p:sp>
            <p:nvSpPr>
              <p:cNvPr id="128" name=""/>
              <p:cNvSpPr/>
              <p:nvPr/>
            </p:nvSpPr>
            <p:spPr>
              <a:xfrm flipV="1" rot="9033000">
                <a:off x="543600" y="413280"/>
                <a:ext cx="3228840" cy="3211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0" y="13602"/>
                    </a:moveTo>
                    <a:arcTo wR="10800" hR="10800" stAng="9897842" swAng="113524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0" y="13602"/>
                    </a:moveTo>
                    <a:arcTo wR="10800" hR="10800" stAng="9897842" swAng="11352487"/>
                  </a:path>
                </a:pathLst>
              </a:cu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740600">
                <a:off x="1395360" y="849960"/>
                <a:ext cx="2667240" cy="207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1" y="1"/>
                    </a:moveTo>
                    <a:arcTo wR="10800" hR="10800" stAng="-5441171" swAng="3432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1" y="1"/>
                    </a:moveTo>
                    <a:arcTo wR="10800" hR="10800" stAng="-5441171" swAng="3432390"/>
                  </a:path>
                </a:pathLst>
              </a:cu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985200">
                <a:off x="439200" y="1685880"/>
                <a:ext cx="26856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170800">
                <a:off x="522000" y="2531880"/>
                <a:ext cx="26820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377200">
                <a:off x="828360" y="919080"/>
                <a:ext cx="26820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054800">
                <a:off x="1559520" y="457920"/>
                <a:ext cx="26856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338400">
                <a:off x="2404080" y="457560"/>
                <a:ext cx="26856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9419000">
                <a:off x="3171600" y="880560"/>
                <a:ext cx="26820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551200">
                <a:off x="3556080" y="1649160"/>
                <a:ext cx="26820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985200">
                <a:off x="3555720" y="2494080"/>
                <a:ext cx="26820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445800">
                <a:off x="406440" y="210960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894800">
                <a:off x="560520" y="126504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3505200">
                <a:off x="1175400" y="63072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2000880" y="40068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0800000">
                <a:off x="3633480" y="2033280"/>
                <a:ext cx="26820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9242400">
                <a:off x="3420360" y="1207800"/>
                <a:ext cx="26820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6741600">
                <a:off x="2807280" y="59256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90560" y="253224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2360" y="18604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4240" y="116856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12840" y="6127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3808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3360" y="5731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1960" y="247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11560" y="11113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2000" y="17827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3040" y="276696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1000 RP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879800" y="241200"/>
            <a:ext cx="3924360" cy="3876840"/>
            <a:chOff x="4879800" y="241200"/>
            <a:chExt cx="3924360" cy="3876840"/>
          </a:xfrm>
        </p:grpSpPr>
        <p:sp>
          <p:nvSpPr>
            <p:cNvPr id="156" name=""/>
            <p:cNvSpPr/>
            <p:nvPr/>
          </p:nvSpPr>
          <p:spPr>
            <a:xfrm>
              <a:off x="4879800" y="241200"/>
              <a:ext cx="3924360" cy="3876840"/>
            </a:xfrm>
            <a:custGeom>
              <a:avLst/>
              <a:gdLst/>
              <a:ahLst/>
              <a:rect l="l" t="t" r="r" b="b"/>
              <a:pathLst>
                <a:path w="2472" h="2442">
                  <a:moveTo>
                    <a:pt x="778" y="2426"/>
                  </a:moveTo>
                  <a:lnTo>
                    <a:pt x="964" y="2424"/>
                  </a:lnTo>
                  <a:lnTo>
                    <a:pt x="1034" y="2430"/>
                  </a:lnTo>
                  <a:lnTo>
                    <a:pt x="1080" y="2434"/>
                  </a:lnTo>
                  <a:lnTo>
                    <a:pt x="1164" y="2434"/>
                  </a:lnTo>
                  <a:lnTo>
                    <a:pt x="1236" y="2436"/>
                  </a:lnTo>
                  <a:lnTo>
                    <a:pt x="1296" y="2442"/>
                  </a:lnTo>
                  <a:lnTo>
                    <a:pt x="1330" y="2438"/>
                  </a:lnTo>
                  <a:lnTo>
                    <a:pt x="1426" y="2430"/>
                  </a:lnTo>
                  <a:lnTo>
                    <a:pt x="1540" y="2406"/>
                  </a:lnTo>
                  <a:lnTo>
                    <a:pt x="1660" y="2372"/>
                  </a:lnTo>
                  <a:lnTo>
                    <a:pt x="1779" y="2317"/>
                  </a:lnTo>
                  <a:lnTo>
                    <a:pt x="1842" y="2286"/>
                  </a:lnTo>
                  <a:lnTo>
                    <a:pt x="2008" y="2174"/>
                  </a:lnTo>
                  <a:lnTo>
                    <a:pt x="2080" y="2095"/>
                  </a:lnTo>
                  <a:lnTo>
                    <a:pt x="2190" y="1956"/>
                  </a:lnTo>
                  <a:lnTo>
                    <a:pt x="2472" y="1582"/>
                  </a:lnTo>
                  <a:lnTo>
                    <a:pt x="2444" y="456"/>
                  </a:lnTo>
                  <a:lnTo>
                    <a:pt x="2348" y="458"/>
                  </a:lnTo>
                  <a:lnTo>
                    <a:pt x="2346" y="360"/>
                  </a:lnTo>
                  <a:lnTo>
                    <a:pt x="2166" y="358"/>
                  </a:lnTo>
                  <a:lnTo>
                    <a:pt x="1716" y="0"/>
                  </a:lnTo>
                  <a:lnTo>
                    <a:pt x="920" y="12"/>
                  </a:lnTo>
                  <a:cubicBezTo>
                    <a:pt x="710" y="55"/>
                    <a:pt x="559" y="187"/>
                    <a:pt x="454" y="256"/>
                  </a:cubicBezTo>
                  <a:lnTo>
                    <a:pt x="290" y="428"/>
                  </a:lnTo>
                  <a:cubicBezTo>
                    <a:pt x="242" y="492"/>
                    <a:pt x="193" y="586"/>
                    <a:pt x="166" y="638"/>
                  </a:cubicBezTo>
                  <a:cubicBezTo>
                    <a:pt x="139" y="690"/>
                    <a:pt x="136" y="714"/>
                    <a:pt x="126" y="738"/>
                  </a:cubicBezTo>
                  <a:cubicBezTo>
                    <a:pt x="116" y="762"/>
                    <a:pt x="116" y="761"/>
                    <a:pt x="108" y="781"/>
                  </a:cubicBezTo>
                  <a:cubicBezTo>
                    <a:pt x="100" y="801"/>
                    <a:pt x="95" y="841"/>
                    <a:pt x="79" y="861"/>
                  </a:cubicBezTo>
                  <a:cubicBezTo>
                    <a:pt x="63" y="881"/>
                    <a:pt x="23" y="889"/>
                    <a:pt x="12" y="901"/>
                  </a:cubicBezTo>
                  <a:cubicBezTo>
                    <a:pt x="1" y="913"/>
                    <a:pt x="0" y="930"/>
                    <a:pt x="12" y="936"/>
                  </a:cubicBezTo>
                  <a:cubicBezTo>
                    <a:pt x="24" y="942"/>
                    <a:pt x="72" y="932"/>
                    <a:pt x="84" y="940"/>
                  </a:cubicBezTo>
                  <a:cubicBezTo>
                    <a:pt x="96" y="948"/>
                    <a:pt x="97" y="976"/>
                    <a:pt x="87" y="985"/>
                  </a:cubicBezTo>
                  <a:cubicBezTo>
                    <a:pt x="77" y="994"/>
                    <a:pt x="34" y="986"/>
                    <a:pt x="22" y="996"/>
                  </a:cubicBezTo>
                  <a:cubicBezTo>
                    <a:pt x="10" y="1006"/>
                    <a:pt x="11" y="1035"/>
                    <a:pt x="16" y="1047"/>
                  </a:cubicBezTo>
                  <a:cubicBezTo>
                    <a:pt x="21" y="1059"/>
                    <a:pt x="51" y="1049"/>
                    <a:pt x="55" y="1071"/>
                  </a:cubicBezTo>
                  <a:cubicBezTo>
                    <a:pt x="59" y="1093"/>
                    <a:pt x="45" y="1142"/>
                    <a:pt x="43" y="1177"/>
                  </a:cubicBezTo>
                  <a:cubicBezTo>
                    <a:pt x="41" y="1212"/>
                    <a:pt x="39" y="1235"/>
                    <a:pt x="43" y="1279"/>
                  </a:cubicBezTo>
                  <a:cubicBezTo>
                    <a:pt x="45" y="1341"/>
                    <a:pt x="36" y="1345"/>
                    <a:pt x="66" y="1442"/>
                  </a:cubicBezTo>
                  <a:cubicBezTo>
                    <a:pt x="79" y="1507"/>
                    <a:pt x="96" y="1602"/>
                    <a:pt x="121" y="1672"/>
                  </a:cubicBezTo>
                  <a:cubicBezTo>
                    <a:pt x="146" y="1742"/>
                    <a:pt x="186" y="1810"/>
                    <a:pt x="216" y="1864"/>
                  </a:cubicBezTo>
                  <a:lnTo>
                    <a:pt x="303" y="1996"/>
                  </a:lnTo>
                  <a:lnTo>
                    <a:pt x="402" y="2098"/>
                  </a:lnTo>
                  <a:lnTo>
                    <a:pt x="513" y="2197"/>
                  </a:lnTo>
                  <a:lnTo>
                    <a:pt x="622" y="2268"/>
                  </a:lnTo>
                  <a:lnTo>
                    <a:pt x="639" y="2286"/>
                  </a:lnTo>
                  <a:lnTo>
                    <a:pt x="645" y="2304"/>
                  </a:lnTo>
                  <a:lnTo>
                    <a:pt x="644" y="2424"/>
                  </a:lnTo>
                  <a:lnTo>
                    <a:pt x="780" y="2426"/>
                  </a:lnTo>
                  <a:lnTo>
                    <a:pt x="778" y="242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10240" y="812880"/>
              <a:ext cx="2478240" cy="25257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11920" y="2882880"/>
              <a:ext cx="1898640" cy="457200"/>
            </a:xfrm>
            <a:custGeom>
              <a:avLst/>
              <a:gdLst/>
              <a:ahLst/>
              <a:rect l="l" t="t" r="r" b="b"/>
              <a:pathLst>
                <a:path w="1196" h="288">
                  <a:moveTo>
                    <a:pt x="0" y="4"/>
                  </a:moveTo>
                  <a:lnTo>
                    <a:pt x="136" y="136"/>
                  </a:lnTo>
                  <a:lnTo>
                    <a:pt x="288" y="228"/>
                  </a:lnTo>
                  <a:lnTo>
                    <a:pt x="456" y="276"/>
                  </a:lnTo>
                  <a:lnTo>
                    <a:pt x="596" y="288"/>
                  </a:lnTo>
                  <a:lnTo>
                    <a:pt x="736" y="276"/>
                  </a:lnTo>
                  <a:lnTo>
                    <a:pt x="816" y="252"/>
                  </a:lnTo>
                  <a:lnTo>
                    <a:pt x="984" y="192"/>
                  </a:lnTo>
                  <a:lnTo>
                    <a:pt x="1100" y="100"/>
                  </a:lnTo>
                  <a:lnTo>
                    <a:pt x="1196" y="0"/>
                  </a:lnTo>
                </a:path>
              </a:pathLst>
            </a:custGeom>
            <a:solidFill>
              <a:srgbClr val="ffffff">
                <a:alpha val="49000"/>
              </a:srgbClr>
            </a:solidFill>
            <a:ln w="9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56920" y="17892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40880" y="11034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58800" y="11318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Firecat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31760" y="5475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23920" y="3967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23640" y="60804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53360" y="27986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64920" y="24876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Black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12800" y="2503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Firecat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22240" y="1766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Firecat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45080" y="29764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 Black"/>
                </a:rPr>
                <a:t>M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270480" y="1417680"/>
              <a:ext cx="1160640" cy="1989000"/>
              <a:chOff x="6270480" y="1417680"/>
              <a:chExt cx="1160640" cy="19890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6326280" y="1417680"/>
                <a:ext cx="1058760" cy="1277640"/>
                <a:chOff x="6326280" y="1417680"/>
                <a:chExt cx="1058760" cy="127764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6326280" y="1417680"/>
                  <a:ext cx="1058760" cy="1277640"/>
                  <a:chOff x="6326280" y="1417680"/>
                  <a:chExt cx="1058760" cy="12776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6326280" y="1417680"/>
                    <a:ext cx="1022040" cy="210960"/>
                  </a:xfrm>
                  <a:prstGeom prst="roundRect">
                    <a:avLst>
                      <a:gd name="adj" fmla="val 1438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6332400" y="2501640"/>
                    <a:ext cx="1052640" cy="193680"/>
                    <a:chOff x="6332400" y="2501640"/>
                    <a:chExt cx="1052640" cy="19368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6332400" y="251748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6626160" y="251280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6921360" y="250956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213680" y="2501640"/>
                      <a:ext cx="171360" cy="177840"/>
                    </a:xfrm>
                    <a:custGeom>
                      <a:avLst/>
                      <a:gdLst>
                        <a:gd name="textAreaLeft" fmla="*/ 8280 w 171360"/>
                        <a:gd name="textAreaRight" fmla="*/ 163080 w 171360"/>
                        <a:gd name="textAreaTop" fmla="*/ 8280 h 177840"/>
                        <a:gd name="textAreaBottom" fmla="*/ 169560 h 177840"/>
                      </a:gdLst>
                      <a:ahLst/>
                      <a:rect l="textAreaLeft" t="textAreaTop" r="textAreaRight" b="textAreaBottom"/>
                      <a:pathLst>
                        <a:path w="21600" h="2241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15"/>
                          </a:lnTo>
                          <a:arcTo wR="3600" hR="3600" stAng="10800000" swAng="-5400000"/>
                          <a:lnTo>
                            <a:pt x="18000" y="2241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9" name=""/>
                <p:cNvSpPr/>
                <p:nvPr/>
              </p:nvSpPr>
              <p:spPr>
                <a:xfrm>
                  <a:off x="6740640" y="1955520"/>
                  <a:ext cx="21888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270480" y="2014560"/>
                <a:ext cx="1160640" cy="106200"/>
                <a:chOff x="6270480" y="2014560"/>
                <a:chExt cx="1160640" cy="1062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270480" y="2031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42200" y="20145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788160" y="3235320"/>
                <a:ext cx="177840" cy="17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130880" y="843120"/>
              <a:ext cx="746280" cy="523800"/>
            </a:xfrm>
            <a:custGeom>
              <a:avLst/>
              <a:gdLst/>
              <a:ahLst/>
              <a:rect l="l" t="t" r="r" b="b"/>
              <a:pathLst>
                <a:path w="470" h="330">
                  <a:moveTo>
                    <a:pt x="0" y="0"/>
                  </a:moveTo>
                  <a:lnTo>
                    <a:pt x="70" y="21"/>
                  </a:lnTo>
                  <a:lnTo>
                    <a:pt x="115" y="39"/>
                  </a:lnTo>
                  <a:lnTo>
                    <a:pt x="184" y="71"/>
                  </a:lnTo>
                  <a:lnTo>
                    <a:pt x="266" y="120"/>
                  </a:lnTo>
                  <a:cubicBezTo>
                    <a:pt x="295" y="141"/>
                    <a:pt x="333" y="174"/>
                    <a:pt x="358" y="198"/>
                  </a:cubicBezTo>
                  <a:cubicBezTo>
                    <a:pt x="383" y="222"/>
                    <a:pt x="399" y="239"/>
                    <a:pt x="418" y="261"/>
                  </a:cubicBezTo>
                  <a:cubicBezTo>
                    <a:pt x="437" y="283"/>
                    <a:pt x="459" y="316"/>
                    <a:pt x="470" y="330"/>
                  </a:cubicBezTo>
                </a:path>
              </a:pathLst>
            </a:custGeom>
            <a:noFill/>
            <a:ln w="54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10560" y="1386000"/>
              <a:ext cx="277920" cy="1495440"/>
            </a:xfrm>
            <a:custGeom>
              <a:avLst/>
              <a:gdLst/>
              <a:ahLst/>
              <a:rect l="l" t="t" r="r" b="b"/>
              <a:pathLst>
                <a:path w="175" h="942">
                  <a:moveTo>
                    <a:pt x="50" y="0"/>
                  </a:moveTo>
                  <a:cubicBezTo>
                    <a:pt x="64" y="28"/>
                    <a:pt x="114" y="122"/>
                    <a:pt x="132" y="170"/>
                  </a:cubicBezTo>
                  <a:cubicBezTo>
                    <a:pt x="150" y="218"/>
                    <a:pt x="153" y="249"/>
                    <a:pt x="160" y="290"/>
                  </a:cubicBezTo>
                  <a:cubicBezTo>
                    <a:pt x="167" y="331"/>
                    <a:pt x="173" y="373"/>
                    <a:pt x="174" y="418"/>
                  </a:cubicBezTo>
                  <a:cubicBezTo>
                    <a:pt x="175" y="463"/>
                    <a:pt x="170" y="519"/>
                    <a:pt x="164" y="562"/>
                  </a:cubicBezTo>
                  <a:cubicBezTo>
                    <a:pt x="158" y="605"/>
                    <a:pt x="154" y="633"/>
                    <a:pt x="140" y="674"/>
                  </a:cubicBezTo>
                  <a:cubicBezTo>
                    <a:pt x="126" y="715"/>
                    <a:pt x="105" y="765"/>
                    <a:pt x="82" y="810"/>
                  </a:cubicBezTo>
                  <a:cubicBezTo>
                    <a:pt x="59" y="855"/>
                    <a:pt x="17" y="915"/>
                    <a:pt x="0" y="942"/>
                  </a:cubicBezTo>
                </a:path>
              </a:pathLst>
            </a:custGeom>
            <a:noFill/>
            <a:ln w="54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580000" y="782640"/>
              <a:ext cx="2536920" cy="1873440"/>
              <a:chOff x="5580000" y="782640"/>
              <a:chExt cx="2536920" cy="1873440"/>
            </a:xfrm>
          </p:grpSpPr>
          <p:sp>
            <p:nvSpPr>
              <p:cNvPr id="187" name=""/>
              <p:cNvSpPr/>
              <p:nvPr/>
            </p:nvSpPr>
            <p:spPr>
              <a:xfrm>
                <a:off x="5580000" y="200196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0161800">
                <a:off x="5694480" y="2611080"/>
                <a:ext cx="9180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18000">
                <a:off x="5746320" y="140760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3267600">
                <a:off x="6188400" y="97524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157400">
                <a:off x="7369200" y="95904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5400000">
                <a:off x="6775560" y="81504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8549400">
                <a:off x="7824240" y="137232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0800000">
                <a:off x="8024760" y="195696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2584400">
                <a:off x="7921440" y="2557080"/>
                <a:ext cx="9216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119720" y="811080"/>
                <a:ext cx="22320" cy="95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643880" y="1111320"/>
                <a:ext cx="6192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23320" y="2274840"/>
                <a:ext cx="75960" cy="12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994520" y="1657440"/>
                <a:ext cx="54000" cy="15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5601960" y="2325600"/>
                <a:ext cx="68040" cy="9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5610240" y="1692000"/>
                <a:ext cx="87120" cy="2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5946840" y="1141200"/>
                <a:ext cx="77760" cy="66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6500880" y="818640"/>
                <a:ext cx="2520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1465200" y="4281480"/>
            <a:ext cx="2735280" cy="2496960"/>
            <a:chOff x="1465200" y="4281480"/>
            <a:chExt cx="2735280" cy="2496960"/>
          </a:xfrm>
        </p:grpSpPr>
        <p:sp>
          <p:nvSpPr>
            <p:cNvPr id="205" name=""/>
            <p:cNvSpPr/>
            <p:nvPr/>
          </p:nvSpPr>
          <p:spPr>
            <a:xfrm>
              <a:off x="2517840" y="4281480"/>
              <a:ext cx="1682640" cy="2470320"/>
            </a:xfrm>
            <a:custGeom>
              <a:avLst/>
              <a:gdLst/>
              <a:ahLst/>
              <a:rect l="l" t="t" r="r" b="b"/>
              <a:pathLst>
                <a:path w="1060" h="1556">
                  <a:moveTo>
                    <a:pt x="12" y="476"/>
                  </a:moveTo>
                  <a:lnTo>
                    <a:pt x="68" y="412"/>
                  </a:lnTo>
                  <a:lnTo>
                    <a:pt x="256" y="412"/>
                  </a:lnTo>
                  <a:lnTo>
                    <a:pt x="280" y="376"/>
                  </a:lnTo>
                  <a:lnTo>
                    <a:pt x="412" y="0"/>
                  </a:lnTo>
                  <a:lnTo>
                    <a:pt x="668" y="0"/>
                  </a:lnTo>
                  <a:cubicBezTo>
                    <a:pt x="756" y="50"/>
                    <a:pt x="875" y="199"/>
                    <a:pt x="940" y="300"/>
                  </a:cubicBezTo>
                  <a:cubicBezTo>
                    <a:pt x="1005" y="401"/>
                    <a:pt x="1040" y="480"/>
                    <a:pt x="1060" y="604"/>
                  </a:cubicBezTo>
                  <a:lnTo>
                    <a:pt x="1060" y="1044"/>
                  </a:lnTo>
                  <a:lnTo>
                    <a:pt x="652" y="1556"/>
                  </a:lnTo>
                  <a:lnTo>
                    <a:pt x="520" y="1552"/>
                  </a:lnTo>
                  <a:lnTo>
                    <a:pt x="324" y="1320"/>
                  </a:lnTo>
                  <a:lnTo>
                    <a:pt x="276" y="1184"/>
                  </a:lnTo>
                  <a:lnTo>
                    <a:pt x="236" y="1156"/>
                  </a:lnTo>
                  <a:lnTo>
                    <a:pt x="52" y="1156"/>
                  </a:lnTo>
                  <a:lnTo>
                    <a:pt x="0" y="1080"/>
                  </a:lnTo>
                  <a:lnTo>
                    <a:pt x="12" y="4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65200" y="4370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344400">
              <a:off x="3018240" y="5916960"/>
              <a:ext cx="638280" cy="76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3411000">
              <a:off x="3008160" y="4495680"/>
              <a:ext cx="7128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20475600">
              <a:off x="3658680" y="510588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459000">
              <a:off x="3713040" y="571824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672800">
              <a:off x="3633840" y="5999760"/>
              <a:ext cx="10296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98680" y="464508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4480" y="6022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3121200" y="5235480"/>
            <a:ext cx="480960" cy="4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1200" y="523548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6" name=""/>
          <p:cNvGrpSpPr/>
          <p:nvPr/>
        </p:nvGrpSpPr>
        <p:grpSpPr>
          <a:xfrm>
            <a:off x="4568760" y="4027320"/>
            <a:ext cx="2725920" cy="2808360"/>
            <a:chOff x="4568760" y="4027320"/>
            <a:chExt cx="2725920" cy="2808360"/>
          </a:xfrm>
        </p:grpSpPr>
        <p:sp>
          <p:nvSpPr>
            <p:cNvPr id="217" name=""/>
            <p:cNvSpPr/>
            <p:nvPr/>
          </p:nvSpPr>
          <p:spPr>
            <a:xfrm>
              <a:off x="4568760" y="4027320"/>
              <a:ext cx="1595520" cy="2808360"/>
            </a:xfrm>
            <a:custGeom>
              <a:avLst/>
              <a:gdLst/>
              <a:ahLst/>
              <a:rect l="l" t="t" r="r" b="b"/>
              <a:pathLst>
                <a:path w="1005" h="1769">
                  <a:moveTo>
                    <a:pt x="0" y="324"/>
                  </a:moveTo>
                  <a:lnTo>
                    <a:pt x="332" y="0"/>
                  </a:lnTo>
                  <a:lnTo>
                    <a:pt x="628" y="4"/>
                  </a:lnTo>
                  <a:lnTo>
                    <a:pt x="772" y="478"/>
                  </a:lnTo>
                  <a:lnTo>
                    <a:pt x="988" y="464"/>
                  </a:lnTo>
                  <a:lnTo>
                    <a:pt x="993" y="562"/>
                  </a:lnTo>
                  <a:lnTo>
                    <a:pt x="1005" y="1256"/>
                  </a:lnTo>
                  <a:lnTo>
                    <a:pt x="764" y="1248"/>
                  </a:lnTo>
                  <a:lnTo>
                    <a:pt x="562" y="1769"/>
                  </a:lnTo>
                  <a:lnTo>
                    <a:pt x="460" y="1726"/>
                  </a:lnTo>
                  <a:lnTo>
                    <a:pt x="310" y="1624"/>
                  </a:lnTo>
                  <a:lnTo>
                    <a:pt x="210" y="1519"/>
                  </a:lnTo>
                  <a:lnTo>
                    <a:pt x="114" y="1396"/>
                  </a:lnTo>
                  <a:lnTo>
                    <a:pt x="52" y="1280"/>
                  </a:lnTo>
                  <a:lnTo>
                    <a:pt x="8" y="1152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70520" y="4262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9796400">
              <a:off x="5051520" y="5845320"/>
              <a:ext cx="66672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1803600">
              <a:off x="5052960" y="4179600"/>
              <a:ext cx="666720" cy="72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906800" y="5053320"/>
              <a:ext cx="162000" cy="655560"/>
              <a:chOff x="4906800" y="5053320"/>
              <a:chExt cx="162000" cy="655560"/>
            </a:xfrm>
          </p:grpSpPr>
          <p:sp>
            <p:nvSpPr>
              <p:cNvPr id="222" name=""/>
              <p:cNvSpPr/>
              <p:nvPr/>
            </p:nvSpPr>
            <p:spPr>
              <a:xfrm rot="1124400">
                <a:off x="4960440" y="506844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06800" y="536220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0763600">
                <a:off x="4929120" y="5650920"/>
                <a:ext cx="10296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108400" y="45277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0960" y="586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5226120" y="5145120"/>
              <a:ext cx="34776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06:51:38Z</dcterms:created>
  <dc:creator>William D. Flint</dc:creator>
  <dc:description/>
  <dc:language>en-US</dc:language>
  <cp:lastModifiedBy>Betsy Flint</cp:lastModifiedBy>
  <dcterms:modified xsi:type="dcterms:W3CDTF">2004-07-27T13:26:23Z</dcterms:modified>
  <cp:revision>3</cp:revision>
  <dc:subject/>
  <dc:title>Slide 1</dc:title>
</cp:coreProperties>
</file>